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833-DCE8-4ADE-B462-298889C6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201-C827-47D5-89A5-8C485B5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5C-DBC6-4D66-93C7-485E9765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D2B-097C-4A84-802F-B8C4ABD0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7F0-B0B5-4037-99DD-5E74DA72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E5E-3632-4B1D-9E49-BD558DD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2B8-09E1-4E79-831D-2CD0808E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E4E-6792-47CD-BCFF-CBA914DD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76D-D4EB-4297-84BE-A98A9192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C62-2B79-4F5E-96EB-0F904AB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899-2D56-4674-B38F-ECB8AA3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643-7559-4E73-8A98-349394A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1E0-12A6-4311-8878-3F133154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nsaction Models of DDBM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solt 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m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ics 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a transaction commits, its results are permanent and cannot be erased even if system failu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ba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ermin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successful: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incomplete (for some reasons):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ither due to system failure or unsatisfie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llback: undone the actions and return the DB to its state befor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int of n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transaction i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are permanently stored in the DB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u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can be made visible to other transaction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sistency, 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xample of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PUT(flight_no, date, customer_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SELECT STSOLD, 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temp1, tem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ROM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temp1 = temp2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no free seats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reservation completed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tems that a give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s: Read Set (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s: Write Set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are not necessarily mutually 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e Set (BS): BS = R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ertion and deletion are omitted, the discussion is restricted to static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x): some atomic operatio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t operates on DB entit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{read, wri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.e. all operations i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{abort, commit}, the termination condition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ing over its operations and the terminatio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n irreflexive and transitiv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f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R(x) and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W(x) for any data item x then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´there must be an order between conflicting operations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áll operations must precede the termination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dering relation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pplication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= x +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R(x), R(y), W(x)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(R(x), W(x)), (R(y), W(x)), (W(x), C), (R(x), C), (R(y), C)}  where (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mea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: the ordering is not specified for every pai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5560" y="20574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560" y="30160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1200" y="25146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4000" y="25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286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876920" y="2743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application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ular or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ns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line (short life) or batch (long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, nested or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the order of read and wri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step: all read ops before any write 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: a data item must be read befor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 two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: restricted where each read-write pair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tructural typ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quence of primitive operations between begin and end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ransaction may include other transactions with their own commit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concurrency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very is possible independently for each sub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ubtransaction can be a nested on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begin after their parents and finish before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ment is conditional upon the commitment of the 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can execute and commit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nsat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Architecture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280" y="1905120"/>
            <a:ext cx="3338640" cy="3504960"/>
            <a:chOff x="152280" y="1905120"/>
            <a:chExt cx="3338640" cy="3504960"/>
          </a:xfrm>
        </p:grpSpPr>
        <p:sp>
          <p:nvSpPr>
            <p:cNvPr id="97" name=""/>
            <p:cNvSpPr/>
            <p:nvPr/>
          </p:nvSpPr>
          <p:spPr>
            <a:xfrm>
              <a:off x="152280" y="2130480"/>
              <a:ext cx="3338640" cy="316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65280" y="2309760"/>
              <a:ext cx="1250640" cy="536760"/>
              <a:chOff x="665280" y="2309760"/>
              <a:chExt cx="1250640" cy="536760"/>
            </a:xfrm>
          </p:grpSpPr>
          <p:sp>
            <p:nvSpPr>
              <p:cNvPr id="99" name=""/>
              <p:cNvSpPr/>
              <p:nvPr/>
            </p:nvSpPr>
            <p:spPr>
              <a:xfrm>
                <a:off x="665280" y="2309760"/>
                <a:ext cx="119268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20" y="235548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65280" y="2965320"/>
              <a:ext cx="1250640" cy="536760"/>
              <a:chOff x="665280" y="2965320"/>
              <a:chExt cx="1250640" cy="536760"/>
            </a:xfrm>
          </p:grpSpPr>
          <p:sp>
            <p:nvSpPr>
              <p:cNvPr id="102" name=""/>
              <p:cNvSpPr/>
              <p:nvPr/>
            </p:nvSpPr>
            <p:spPr>
              <a:xfrm>
                <a:off x="665280" y="2965320"/>
                <a:ext cx="119232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3520" y="301104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65280" y="3621240"/>
              <a:ext cx="1250640" cy="536400"/>
              <a:chOff x="665280" y="3621240"/>
              <a:chExt cx="1250640" cy="536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5280" y="3621240"/>
                <a:ext cx="1192680" cy="5364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3520" y="366732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01640" y="4276800"/>
              <a:ext cx="1192320" cy="53640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560" y="4325760"/>
              <a:ext cx="132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lobal Execution Moni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99" idx="1"/>
              <a:endCxn id="103" idx="1"/>
            </p:cNvCxnSpPr>
            <p:nvPr/>
          </p:nvCxnSpPr>
          <p:spPr>
            <a:xfrm flipH="1" flipV="1" rot="10800000">
              <a:off x="664920" y="2577600"/>
              <a:ext cx="48240" cy="664560"/>
            </a:xfrm>
            <a:prstGeom prst="curvedConnector5">
              <a:avLst>
                <a:gd name="adj1" fmla="val -378947"/>
                <a:gd name="adj2" fmla="val 49972"/>
                <a:gd name="adj3" fmla="val -378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03" idx="1"/>
              <a:endCxn id="106" idx="1"/>
            </p:cNvCxnSpPr>
            <p:nvPr/>
          </p:nvCxnSpPr>
          <p:spPr>
            <a:xfrm flipH="1" flipV="1" rot="10800000">
              <a:off x="712440" y="3240720"/>
              <a:ext cx="2160" cy="6562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1"/>
              <a:endCxn id="108" idx="1"/>
            </p:cNvCxnSpPr>
            <p:nvPr/>
          </p:nvCxnSpPr>
          <p:spPr>
            <a:xfrm flipV="1" rot="10800000">
              <a:off x="627840" y="3896280"/>
              <a:ext cx="84960" cy="656280"/>
            </a:xfrm>
            <a:prstGeom prst="curvedConnector5">
              <a:avLst>
                <a:gd name="adj1" fmla="val 314893"/>
                <a:gd name="adj2" fmla="val 50000"/>
                <a:gd name="adj3" fmla="val 3148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2" name=""/>
            <p:cNvGrpSpPr/>
            <p:nvPr/>
          </p:nvGrpSpPr>
          <p:grpSpPr>
            <a:xfrm>
              <a:off x="2298600" y="2428920"/>
              <a:ext cx="893880" cy="2246400"/>
              <a:chOff x="2298600" y="2428920"/>
              <a:chExt cx="893880" cy="2246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98600" y="2428920"/>
                <a:ext cx="8938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rn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98600" y="3144240"/>
                <a:ext cx="89388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ceptu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387520" y="4158000"/>
                <a:ext cx="716040" cy="517320"/>
                <a:chOff x="2387520" y="4158000"/>
                <a:chExt cx="716040" cy="517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387520" y="4158000"/>
                  <a:ext cx="655560" cy="4770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07760" y="4398840"/>
                  <a:ext cx="59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D/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8" name=""/>
            <p:cNvCxnSpPr>
              <a:stCxn id="113" idx="1"/>
              <a:endCxn id="100" idx="3"/>
            </p:cNvCxnSpPr>
            <p:nvPr/>
          </p:nvCxnSpPr>
          <p:spPr>
            <a:xfrm flipH="1" flipV="1">
              <a:off x="1917360" y="2585520"/>
              <a:ext cx="381600" cy="7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3" idx="1"/>
              <a:endCxn id="103" idx="3"/>
            </p:cNvCxnSpPr>
            <p:nvPr/>
          </p:nvCxnSpPr>
          <p:spPr>
            <a:xfrm flipH="1">
              <a:off x="1917360" y="2660760"/>
              <a:ext cx="381600" cy="58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4" idx="1"/>
              <a:endCxn id="103" idx="3"/>
            </p:cNvCxnSpPr>
            <p:nvPr/>
          </p:nvCxnSpPr>
          <p:spPr>
            <a:xfrm flipH="1" flipV="1">
              <a:off x="1917360" y="3241080"/>
              <a:ext cx="38160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4" idx="1"/>
              <a:endCxn id="106" idx="3"/>
            </p:cNvCxnSpPr>
            <p:nvPr/>
          </p:nvCxnSpPr>
          <p:spPr>
            <a:xfrm flipH="1">
              <a:off x="1917360" y="3471840"/>
              <a:ext cx="3816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6" idx="1"/>
              <a:endCxn id="106" idx="3"/>
            </p:cNvCxnSpPr>
            <p:nvPr/>
          </p:nvCxnSpPr>
          <p:spPr>
            <a:xfrm flipH="1" flipV="1">
              <a:off x="1917360" y="3896640"/>
              <a:ext cx="635760" cy="50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8" idx="2"/>
              <a:endCxn id="99" idx="1"/>
            </p:cNvCxnSpPr>
            <p:nvPr/>
          </p:nvCxnSpPr>
          <p:spPr>
            <a:xfrm flipV="1" rot="16200000">
              <a:off x="-123840" y="3365640"/>
              <a:ext cx="2202840" cy="626040"/>
            </a:xfrm>
            <a:prstGeom prst="curvedConnector5">
              <a:avLst>
                <a:gd name="adj1" fmla="val -8107"/>
                <a:gd name="adj2" fmla="val 84119"/>
                <a:gd name="adj3" fmla="val -81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320040" y="5064120"/>
              <a:ext cx="12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200" y="190512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99" idx="0"/>
              <a:endCxn id="125" idx="3"/>
            </p:cNvCxnSpPr>
            <p:nvPr/>
          </p:nvCxnSpPr>
          <p:spPr>
            <a:xfrm flipV="1" rot="16200000">
              <a:off x="864000" y="1911600"/>
              <a:ext cx="297360" cy="4993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>
              <a:off x="1285920" y="4813200"/>
              <a:ext cx="5868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0" y="1955520"/>
            <a:ext cx="3124080" cy="3429360"/>
            <a:chOff x="4572000" y="1955520"/>
            <a:chExt cx="3124080" cy="3429360"/>
          </a:xfrm>
        </p:grpSpPr>
        <p:sp>
          <p:nvSpPr>
            <p:cNvPr id="129" name=""/>
            <p:cNvSpPr/>
            <p:nvPr/>
          </p:nvSpPr>
          <p:spPr>
            <a:xfrm>
              <a:off x="4800600" y="2260800"/>
              <a:ext cx="2743200" cy="289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58320" y="4206960"/>
              <a:ext cx="142596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cheduler (S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7400" y="3124440"/>
              <a:ext cx="1389240" cy="580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nager (T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0" idx="0"/>
              <a:endCxn id="131" idx="2"/>
            </p:cNvCxnSpPr>
            <p:nvPr/>
          </p:nvCxnSpPr>
          <p:spPr>
            <a:xfrm flipV="1">
              <a:off x="6171840" y="3707640"/>
              <a:ext cx="1080" cy="49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715000" y="1955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629400" y="1955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4546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58000" y="30985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8000" y="35560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2000" y="4394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343400" y="5856120"/>
            <a:ext cx="304812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0" y="2957"/>
                </a:moveTo>
                <a:lnTo>
                  <a:pt x="-1811" y="2957"/>
                </a:lnTo>
                <a:lnTo>
                  <a:pt x="-1811" y="-14783"/>
                </a:lnTo>
                <a:lnTo>
                  <a:pt x="3283" y="-3885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lobal Execution Monitor (Distributed Execution Moni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720" y="121932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gin_transaction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ad, Write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mmit, Ab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6765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7920" y="53848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o 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5120" y="40132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19040" y="2641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2360" y="386064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ncept of transaction is a unit of consistent and reliable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management: keeping the DB in consistent state even when concurrent accesses and failur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2438280"/>
            <a:ext cx="6306840" cy="2010600"/>
            <a:chOff x="1447920" y="2438280"/>
            <a:chExt cx="6306840" cy="2010600"/>
          </a:xfrm>
        </p:grpSpPr>
        <p:sp>
          <p:nvSpPr>
            <p:cNvPr id="46" name=""/>
            <p:cNvSpPr/>
            <p:nvPr/>
          </p:nvSpPr>
          <p:spPr>
            <a:xfrm>
              <a:off x="228600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5308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3657600"/>
              <a:ext cx="487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51520" y="411156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70880" y="411156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4040" y="4111560"/>
              <a:ext cx="21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xecution of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038" y="4181"/>
                  </a:moveTo>
                  <a:lnTo>
                    <a:pt x="-5470" y="4181"/>
                  </a:lnTo>
                  <a:lnTo>
                    <a:pt x="-5470" y="26071"/>
                  </a:lnTo>
                  <a:lnTo>
                    <a:pt x="11241" y="406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6896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638" y="4181"/>
                  </a:moveTo>
                  <a:lnTo>
                    <a:pt x="24778" y="4181"/>
                  </a:lnTo>
                  <a:lnTo>
                    <a:pt x="24778" y="24097"/>
                  </a:lnTo>
                  <a:lnTo>
                    <a:pt x="5599" y="415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2438280"/>
              <a:ext cx="1787400" cy="824040"/>
            </a:xfrm>
            <a:prstGeom prst="borderCallout2">
              <a:avLst>
                <a:gd name="adj1" fmla="val 18750"/>
                <a:gd name="adj2" fmla="val -8333"/>
                <a:gd name="adj3" fmla="val 13689"/>
                <a:gd name="adj4" fmla="val -15986"/>
                <a:gd name="adj5" fmla="val 144148"/>
                <a:gd name="adj6" fmla="val -28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may be temporarily in an in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history) S: specifies an interleaved execution order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s a partial order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that defines the execution order of all operations in it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conflicting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4267080"/>
                <a:ext cx="157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800600"/>
                <a:ext cx="159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⊇</m:t>
                    </m:r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edule (example): a possible complet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,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28160" y="5105520"/>
            <a:ext cx="1413000" cy="1405800"/>
            <a:chOff x="6428160" y="5105520"/>
            <a:chExt cx="1413000" cy="1405800"/>
          </a:xfrm>
        </p:grpSpPr>
        <p:sp>
          <p:nvSpPr>
            <p:cNvPr id="153" name=""/>
            <p:cNvSpPr/>
            <p:nvPr/>
          </p:nvSpPr>
          <p:spPr>
            <a:xfrm>
              <a:off x="6456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7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8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9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56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37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6520" y="5257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1652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42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549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424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496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fix: P´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} is a prefix of 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i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n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the conflicting operations are relevant at scheduling - redefine sche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incomplete) S: is a prefix of 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mplete schedule (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rtial schedule is a prefix of complete schedule and equivale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4640" y="4113360"/>
            <a:ext cx="3497400" cy="2593080"/>
            <a:chOff x="764640" y="4113360"/>
            <a:chExt cx="3497400" cy="2593080"/>
          </a:xfrm>
        </p:grpSpPr>
        <p:sp>
          <p:nvSpPr>
            <p:cNvPr id="170" name=""/>
            <p:cNvSpPr/>
            <p:nvPr/>
          </p:nvSpPr>
          <p:spPr>
            <a:xfrm>
              <a:off x="79236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7920" y="4114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05400" y="4114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4640" y="4854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679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072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0800" y="561168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14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26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26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38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7720" y="4311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370160" y="4311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15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15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31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31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31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47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47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47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7720" y="5073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17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07320" y="4113360"/>
            <a:ext cx="3469320" cy="1835640"/>
            <a:chOff x="5107320" y="4113360"/>
            <a:chExt cx="3469320" cy="1835640"/>
          </a:xfrm>
        </p:grpSpPr>
        <p:sp>
          <p:nvSpPr>
            <p:cNvPr id="194" name=""/>
            <p:cNvSpPr/>
            <p:nvPr/>
          </p:nvSpPr>
          <p:spPr>
            <a:xfrm>
              <a:off x="510732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2520" y="41144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0360" y="41144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25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18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160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72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32680" y="4311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684400" y="4311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77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993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93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32680" y="5073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563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serial history): if in a schedule S the operations of various transactions are not interleaved, the schedule is s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= {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chedules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for each pair of conflicting operations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) whenever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 equival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S 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it is conflict equivalent to a serial schedul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-based serializ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execute concurrently but the overall effect of the resulted history upon the database is equivalent to some seria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goal of concurrency control: generate a serializable schedule for the pend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histories must be taken into accou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 (at each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ched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partitioned, if each local schedule is serializable then the global schedule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replicated, the global schedule is serializable (one-copy serializable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s are 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flicting operations are in the same relative order in each local schedule where they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plica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stency in presence of replication: one-copy serializability must b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urrency control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ica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 data item x (logical data) is replicated as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...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hysical data i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read(x) is mapped to one of the phys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write(x) is mapped to a subset of the physical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read(x) is mapped to one and write(x) is mapped to all physical copies, it is a read-once/write-all (ROWA)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ss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-Phase Locking based (2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mary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 (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ensure that data shared by conflicting operations are accessed by one operation at a time - a simple way of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k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by a transaction before the lock unit is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t at the end of th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the lock is set already, the lock unit cannot be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lock (shared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lock (exclusive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are controlled by the Lock Manager (LM) which is a part of the Scheduler (see architecture revisi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962520" y="3703680"/>
            <a:ext cx="4724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makes transformations of system states preserving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is a sequence of read and write operations together with computation steps, assum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ransaction may be executed concurrently with others: concurrency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ilures may occur during execution: failure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phase locking (2PL): no transaction should request a lock after it releases one of its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inking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m: any schedule that obeys 2PL rule is serializabl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Eswaran et a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icult to implement Transaction Manager (among others due to cascading abor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038480" y="2133720"/>
            <a:ext cx="4403880" cy="2532600"/>
            <a:chOff x="4038480" y="2133720"/>
            <a:chExt cx="4403880" cy="2532600"/>
          </a:xfrm>
        </p:grpSpPr>
        <p:sp>
          <p:nvSpPr>
            <p:cNvPr id="225" name=""/>
            <p:cNvSpPr/>
            <p:nvPr/>
          </p:nvSpPr>
          <p:spPr>
            <a:xfrm>
              <a:off x="4038480" y="2133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42670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7200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876920" y="3657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3412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41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86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500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220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7712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168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1680" y="3657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3657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396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25146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2133720"/>
              <a:ext cx="10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Lock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52680" y="432900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38960" y="43290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2328840"/>
              <a:ext cx="76176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57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27960" y="231768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44273"/>
                <a:gd name="adj5" fmla="val 201236"/>
                <a:gd name="adj6" fmla="val -815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ict two-phase locking (S2PL): locks are released if the operation is a commit or an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0" y="2971800"/>
            <a:ext cx="4800600" cy="2532960"/>
            <a:chOff x="2286000" y="2971800"/>
            <a:chExt cx="4800600" cy="2532960"/>
          </a:xfrm>
        </p:grpSpPr>
        <p:sp>
          <p:nvSpPr>
            <p:cNvPr id="255" name=""/>
            <p:cNvSpPr/>
            <p:nvPr/>
          </p:nvSpPr>
          <p:spPr>
            <a:xfrm>
              <a:off x="2286000" y="2971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51055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1916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916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24080" y="4496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449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81280" y="4190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419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3356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5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962160" y="3581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160" y="3581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35816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00200" y="516744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5680" y="51674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3167280"/>
              <a:ext cx="76212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65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358164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32120"/>
                <a:gd name="adj5" fmla="val 59351"/>
                <a:gd name="adj6" fmla="val -567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31863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 in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2160" y="34290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Centraliz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2PL scheduler (lock manager) in the distribut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lock requests are address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: TM must implement the replica control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01280" y="2666880"/>
            <a:ext cx="5566680" cy="2667240"/>
            <a:chOff x="1601280" y="2666880"/>
            <a:chExt cx="5566680" cy="2667240"/>
          </a:xfrm>
        </p:grpSpPr>
        <p:sp>
          <p:nvSpPr>
            <p:cNvPr id="277" name=""/>
            <p:cNvSpPr/>
            <p:nvPr/>
          </p:nvSpPr>
          <p:spPr>
            <a:xfrm>
              <a:off x="1601280" y="266688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ata 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5960" y="26668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8880" y="266688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entralized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3081240"/>
              <a:ext cx="19987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254480" y="3562200"/>
              <a:ext cx="1998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4320" y="3908520"/>
              <a:ext cx="18619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54320" y="445932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4803840"/>
              <a:ext cx="19987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86600">
              <a:off x="4393440" y="315900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986200">
              <a:off x="4671720" y="3687840"/>
              <a:ext cx="145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Lock Gra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1111600">
              <a:off x="2674440" y="376236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622200">
              <a:off x="2322720" y="461340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72400">
              <a:off x="4665240" y="47462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5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968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11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Primary copy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alized 2PL scheduler may form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C2PL lock managers are implemented at a number of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responsible for a given set of lock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Ms send lock and unlock requests to the scheduler that is responsible for the given lock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copy of the data item is treated as a primary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ation of the primary copy must be determined prior to sending lock and unlock requests - a directory design iss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Distribut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Ms are available at each site in D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DB is not replicated, it is the same as PC2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replicated, it implements the ROWA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s are passed via LMs - there is no lock grante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57760" y="3581280"/>
            <a:ext cx="5718600" cy="2667240"/>
            <a:chOff x="2057760" y="3581280"/>
            <a:chExt cx="5718600" cy="2667240"/>
          </a:xfrm>
        </p:grpSpPr>
        <p:sp>
          <p:nvSpPr>
            <p:cNvPr id="298" name=""/>
            <p:cNvSpPr/>
            <p:nvPr/>
          </p:nvSpPr>
          <p:spPr>
            <a:xfrm>
              <a:off x="598644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D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5776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440" y="3581280"/>
              <a:ext cx="18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L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6880" y="4038480"/>
              <a:ext cx="198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42840" y="5105520"/>
              <a:ext cx="38858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2840" y="586728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4343400"/>
              <a:ext cx="199836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86600">
              <a:off x="2805840" y="411624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92200">
              <a:off x="5107680" y="449532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115200">
              <a:off x="3812400" y="510552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72400">
              <a:off x="2973960" y="57146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688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3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79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D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LIGH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RC, DEST, STSOLD, 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US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ADDR, B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PE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PUT(flight_no, date, customer_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erti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ps one consistent DB stat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´correctness´of a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transaction sees a consistent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ults of a transaction must survive system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emb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eated as a unit of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ither all the actions of a transaction are completed or none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failure the DBMS can decide whether to terminate by completing the pending actions or terminate by undoing the actions that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ainig atomicity requires recovery from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action failures: data errors, deadlock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ansaction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failures: media, processor failures, communication breakage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lassification of consistency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by Gray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ty data: data values that have been written by a transaction prior to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0 (Transaction T sees degree 0 consistency 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overwrite dirty data of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1: Degree 0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commit any writes before end of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2: Degree 1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read dirty data from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3: Degree 2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transactions do not dirty any data read by T before T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 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execution schemes of T1 and 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t update: incomplete results can be seen by othe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cading aborts: if T1 decides to abort, all transactions that have seen T1´s incomplete results must be ab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905120"/>
            <a:ext cx="106668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-36013"/>
              <a:gd name="adj5" fmla="val 54000"/>
              <a:gd name="adj6" fmla="val -66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s 50 when x is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ecuting transaction cannot reveal it results to other concurrent transactions before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lation is related to serializability: if several transactions are executed concurrently, the results must be the same as if they were executed serially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 strong relationship between isolation and degrees of consiste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0: low level of isolation, yet solves the problem of los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2: solves both lost updates and cascading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3: ful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4:52:09Z</dcterms:created>
  <dc:creator>ITEC</dc:creator>
  <dc:description/>
  <dc:language>en-US</dc:language>
  <cp:lastModifiedBy>zsnemeth</cp:lastModifiedBy>
  <dcterms:modified xsi:type="dcterms:W3CDTF">1999-10-13T17:08:50Z</dcterms:modified>
  <cp:revision>88</cp:revision>
  <dc:subject/>
  <dc:title>Transaction Models of DDBMS</dc:title>
</cp:coreProperties>
</file>