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902825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59E-F227-4245-B3A3-E7703B59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944-A069-4860-A316-0671904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645-1B94-4D59-9742-5058556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3CE-F706-45E6-B697-4F5ECB16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6FD5-A1B1-40DD-84CF-8C301FAA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84C1-0352-46FE-A330-2877B103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EAF3-0D38-4366-97CA-180CE32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0A48-4694-47C2-8B39-DF34DE8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51A1-AA81-4AE4-837C-0B9852E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A632-2DA3-4184-A4C8-A045CABD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A798-A1C6-4FEE-9F6E-BEB840E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B51-0EA6-4B4D-A4F4-C3AB45CB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F716-1D49-48F7-ADDC-2FD3561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3EF6-AE1D-46C8-BE59-AA9AA14B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184A-8AF2-480E-B152-60D1244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0428-5341-4409-AF3D-D21F641D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C4A4-ED5E-4F69-823A-709846B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D4C-522B-4209-8D32-75708259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A2C-0FDA-4763-A991-3E7A8FDC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904-89C6-45BF-9A26-A0D134FC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DB3-4968-4A45-A17A-9075C387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745-4514-4CDF-BEDC-B12C350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906-C4DE-4451-8EE5-8175CC4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5B1-66D1-43AE-A63E-0EFDD56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825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160"/>
            <a:ext cx="347976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8520"/>
            <a:ext cx="243540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38080"/>
            <a:ext cx="906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d14539_" descr=""/>
          <p:cNvPicPr/>
          <p:nvPr/>
        </p:nvPicPr>
        <p:blipFill>
          <a:blip r:embed="rId4"/>
          <a:stretch/>
        </p:blipFill>
        <p:spPr>
          <a:xfrm>
            <a:off x="380880" y="801720"/>
            <a:ext cx="9068040" cy="150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96280" y="1522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D58E-C636-4CCD-AC8C-A4DB6894A52F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42680" y="6248160"/>
            <a:ext cx="260964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724800" y="6248520"/>
            <a:ext cx="24350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ctr">
              <a:spcBef>
                <a:spcPts val="72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algn="ctr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3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br>
              <a:rPr sz="10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Developing of Network Computing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Based System Develop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jos Fic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Information Technology, University of Misko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F509-0452-43FA-A341-AC8850ECB9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direct (object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by objects that are made available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direction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ethod disp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bject's class determines the implementation of the object'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runtime, a method invocation is resolved by retrieving the target object's class and directing the call to the nethod implementation in tha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931-9BD8-4071-928A-3B89FF9BBF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direct interface: an exampl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1040" y="990360"/>
            <a:ext cx="46864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registers itself - the mediator knows only the abstrac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acquires a reference to the current checker from the mediator (the word processor knows only the abstract checker interface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198144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41148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1219320"/>
            <a:ext cx="20574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752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560" y="129528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13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752480"/>
            <a:ext cx="16765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0040" y="1295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check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mar 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0" y="51814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 mediator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9568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28800" y="2362320"/>
            <a:ext cx="1371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560" y="2362320"/>
            <a:ext cx="685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167616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38088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7432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0481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31240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640" y="26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28195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720" y="48769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1080" y="3505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620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828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36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096-2BDC-49A4-BC55-3BD219161D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as 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terface specification: contract betwe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 constructor of 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tract states what the client needs to do to use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theory, the contract could be refined at run tim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377-98C3-420B-80C4-F682749514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 of a Contra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r every oper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onditions: the client has to establish i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oper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tconditions: the component has to establish before returning to the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ially correctness: the operation terminates with the correct postconditions or does not terminates at 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tal correctness: the operation should eventually termin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Non-functional requirements (performance, availability, data safety capacity etc.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CB7-8460-4A73-8939-C243765823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cified interfa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00"/>
              </a:spcBef>
              <a:buSzPct val="121168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deployment environment will need to provide, such that the component ca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interfaces of the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include also the specification of the component world (component model and its version). (For example CORBA x.x, Java x.x, COM/DCOM x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601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0A2-2997-4CC7-881A-EBDC635C57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ch component model use a specific distributed object model as a middle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three major component model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3124080"/>
          <a:ext cx="8534520" cy="270036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1981440"/>
                <a:gridCol w="17524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Bea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Java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R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 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1D6-20DC-4033-BA91-769A267874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avaBean 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main aspects of the Bean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ow does it work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10C-E9AC-46D3-8F8D-B59A96F4A6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specification a Java component architecture for Java component developers and component assembl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a black-box component. It may be visible or invis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consists in a ZIP-format archive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set of serialized objec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tional HTML help file, localization information, icon and other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optional manifest fil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DFE-1C2F-4AC7-917C-AAA5C52710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are (mainly) presentation tier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tipically represent GUI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hare the address space with their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ir clients are containers that provide all the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end events to their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637-FF82-4695-9697-71BA279CF3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grammer's View of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895480"/>
            <a:ext cx="1981080" cy="1905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05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2670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219320"/>
            <a:ext cx="175284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288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1676520"/>
            <a:ext cx="190476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75680" y="1219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94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9520" y="3124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00C-BE8B-4059-A9FD-3B1DD5528B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cept of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ftware compon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Enterprise JavaBeans component model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FEE-869A-48E5-8A8C-92555F547B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ithin the JDK the developer c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scr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applications from customized Beans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A1D-BB65-4E5A-9B7C-FE21F37432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JDK Framework View of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19320"/>
            <a:ext cx="8991720" cy="259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809880"/>
            <a:ext cx="2666880" cy="228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572000"/>
            <a:ext cx="2133360" cy="990720"/>
          </a:xfrm>
          <a:prstGeom prst="leftRightArrow">
            <a:avLst>
              <a:gd name="adj1" fmla="val 50000"/>
              <a:gd name="adj2" fmla="val 428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600200"/>
            <a:ext cx="1066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600200"/>
            <a:ext cx="16002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1148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2670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4197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5720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7242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49528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 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8BA-0A12-4F7A-ACA1-6E1488FA65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isual Present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the visual layout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 components visually interact with each oth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se are provided b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Foundation Classes (JF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W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D graph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AF0-3CFF-4FAD-9DC1-D020BD716B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event model: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vent-delegatio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the same one JDK 1.1 introduced for AWT but every Beans can use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s are obj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ost an event (event sourc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ther components can subscribe to the event sour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the subscribed component (listeners) will be notified if the event "fire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855-45EB-4675-8F88-E19BC46282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have properties: named attrib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read and modify these properties using a property editor within a visual to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t run time getter and setter methods are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y changes can trigger ev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ies can be constra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EFE-C9DB-44D2-A248-753CF4C8BF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mponent can make its services to the outside wor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visual tool use this facility to discover the Bean's incoming and outgoing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ers can define for their Beans an explicit BeanInfo clas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3C8-251E-472D-887F-EDA17B23F5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use the JDK serializatio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isual tools require component that support some form of persiste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a simple form of versio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load state written by their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store state in a format that is consistent with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an be packaged and distributed using JAR fil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554-2048-4936-924A-0C1212F1D8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the toolability of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edito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es provide the first level of support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 designer can visually edit a particular part of property, for example font, col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sheet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re visual interfaces that group all the propriety edit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ustomizers provide dialogs that let the designer edit a bean as a who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0C1-B0F2-455B-8F8E-670FF45216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RBA ORB let the programmer invoke methods across languages, operating systems and network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MI can also use for Java-to-Java bean commun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FBA-BBBB-4648-B9B3-12DF275C30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6000"/>
          </a:bodyPr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has to works inside a builder as well as in a running appli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 be toolable a beans must support a lot of extra func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971800"/>
            <a:ext cx="2895840" cy="312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Edi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Descripto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spec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71800"/>
            <a:ext cx="213372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124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" y="37846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4880" y="41911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633-3903-44AB-B7DD-5433CD036C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lti-tier architecture separates at least the presentation - application - data management layers, but these tiers usually remain comple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tional separation of the tiers is pos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mand of the market for the sorter development proce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onents help in re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siest way to develop scalable syste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6EC-2AB4-459A-902C-C342004BF4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ng Patter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architecture specifies standard name and type conventions for methods that a Bean uses to expose its properties, events and metho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introspector uses this convention to discover the Bean's facilit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alter this convention by providing an own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5F4-C9CD-4637-86F2-9AF56963F7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riting a Bean class the naming conventions are compuls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a Bean is a visual component it must derive from one of the AWT class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ntainer  must be created and the bean must be added to i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the Bean is a listener it must register to the event sourc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0D4-7007-4B53-9FB0-93DB4C3A64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 source beans generates event objects and pass them as arguments to the event handling methods of listen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registered  listener get the event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ry delivery normally is multicas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it possible to create an event adapter to demultiplexing of event sources onto a single liste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C41-7CC3-4AB9-AC74-46C7C7023E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terprise JavaBeans Component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nterprise JavaBeans 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Session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Entity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F3C-346B-4DD5-9495-96D4947542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component model helps to developing the client side ti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usiness logic tier needs a server-oriented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ing the business logic tier the support of transactions is essent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large business application has several different client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A7C-F34F-4E82-AD45-D7414F7980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vide the standard architecture for developing distributed, component-based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ol interoperati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ide all the "technical" details such as handling transactions, security, distribution etc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dress development, deployment, and runtime aspects of enterprise application life cycl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445-E660-4A45-96E2-C1A9810733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nterprise Beans  Typ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ree different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057400"/>
          <a:ext cx="9296280" cy="3657600"/>
        </p:xfrm>
        <a:graphic>
          <a:graphicData uri="http://schemas.openxmlformats.org/drawingml/2006/table">
            <a:tbl>
              <a:tblPr/>
              <a:tblGrid>
                <a:gridCol w="3684600"/>
                <a:gridCol w="5611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B Typ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s a task for a cli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s a business entity object that exists in persist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-Drive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s as a listener for the Java Message Service API, processing messages asynchronously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AB5-8F13-452C-8C99-70A883B7CD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tipically provide server-side functiona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run in their own address sp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are integrated into a container that hides all system detai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anage components and notify components about events such as activation, passivation, trans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 component access to services such as transactions, security, persist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lp to register and deploy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A49-EFFD-4733-A97E-9802398730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371600"/>
            <a:ext cx="5410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733920"/>
            <a:ext cx="22096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447920"/>
            <a:ext cx="1447920" cy="441936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S/J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0481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44197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1676520"/>
            <a:ext cx="83844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2670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19720"/>
            <a:ext cx="1447560" cy="1447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57200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7242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436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60984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81952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3240" y="2286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640" y="5029200"/>
            <a:ext cx="12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733920"/>
            <a:ext cx="12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2440" y="19051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240" y="487692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9810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952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743200"/>
            <a:ext cx="144756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743200"/>
            <a:ext cx="160020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495320" y="2742840"/>
            <a:ext cx="12193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66688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743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164-9EDE-4DDD-8F96-5113BD4F3B5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Session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 is trans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ecutes on behalf of a single client - the instance is an extension of the client that creates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transaction-a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pdates data in an underlying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s lifetime is tipically that of its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destroyed when the EJS server crashes. The client has to re-establish a new session objec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C7C-9842-4842-8389-F50BC5B6B9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haracteristic properties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independent deploy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ell separat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rom its environment and from other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will never be deployed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arti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 encapsulates its constituent featu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user of a component cannot be expected to have access to the construction detai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590-E576-40BD-A40D-911619EAF2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the Session Bean (cont'd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oes not represent data that should be stores in a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pically reads and update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re intended to be private resources used only the client that creates th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onymous - it hides its identit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26A-CDF2-42A8-8BA6-FCEA851BBA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Entity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shared access from multiple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icipates in transa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present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long-liv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rvives crashes of the EJB server. The crash is transparent to the cli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as a persistent object reference. The object reference is encapsulated the Object Id for this Bea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EE4-0D3E-48CB-BAD4-49726FE864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2590920"/>
            <a:ext cx="2057400" cy="1371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2057400"/>
            <a:ext cx="2667240" cy="3048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2362320"/>
            <a:ext cx="1828800" cy="1904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864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2760" y="4572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335268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'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040" y="3733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4520" y="3048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251460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29718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5181480"/>
            <a:ext cx="175248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6BE-A65E-446D-B02B-AACEEB6D53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2966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between client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Bean has a unique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: Remote interface provided by bean. Client locates home using JNDI. Primary key server as identification within a home. Bean and container cooperate to implement create, find, home and re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: provided by Bean. Implementation of business logic in Bean class. Container delegates incoming call to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: serializable classes for storing references persist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MetaData: Run-time access to component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D81-25CE-4793-929A-0E766EF47D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contract between Bean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nce view of life cy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tityContext/SessionContext/MessageDriveContext Are passed to Bean instance at creation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vironment tha a container makes available to a Bean in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st of services provided by the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D6B-FB80-47A5-BEB5-9D7717D97D1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XML based Deployment Description for configuration and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 files for Enterprise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class (Entity Bean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349-6932-432F-A389-D9FC8C04203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8000"/>
          </a:bodyPr>
          <a:p>
            <a:pPr marL="3405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ActiveX Cont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77E-2793-4E5B-A71D-1F0EDB437F6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DCOM: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Distributed Component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istributed object model of Microso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inary interoperability standard and its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PI level servi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No high-level language bindings, but Microsoft Visual J++ provides Java bin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ased on DCE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D18-AB3F-4058-AF79-8A43E59A59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 a component supports one or more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identified by a 128-bit CLSID (Class ID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not an object in the classical OO sen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re is no object 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DCOM objects does not maintain state between conn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ient cannot reconnect to exactly the same 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684-8269-4E51-BEFE-C311DE3BBA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llection of related fun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parates the interface from the implementation (uses DCE-based IDL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efines as a low-level binary API based on a table of pointers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vtabl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n interface has a symbolic name, but at run time is identified by a 128-bit unique IID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Interface Identifier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BA5-D0FF-496C-A5A0-E9D61A3D7B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third-party composi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be sufficiently self-contain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come with clear specif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nteracts with its environment through a well-defined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7A6-8048-46EB-BFBB-3626627B44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438280"/>
            <a:ext cx="1467000" cy="1390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6440" y="2705040"/>
            <a:ext cx="4362480" cy="304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81360" y="2685960"/>
            <a:ext cx="1276200" cy="3048120"/>
            <a:chOff x="2781360" y="2685960"/>
            <a:chExt cx="1276200" cy="3048120"/>
          </a:xfrm>
        </p:grpSpPr>
        <p:sp>
          <p:nvSpPr>
            <p:cNvPr id="292" name=""/>
            <p:cNvSpPr/>
            <p:nvPr/>
          </p:nvSpPr>
          <p:spPr>
            <a:xfrm>
              <a:off x="2781360" y="268596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1360" y="31053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160" y="352440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9160" y="394344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4381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0440" y="481968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160" y="52768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67360" y="2705040"/>
            <a:ext cx="1276200" cy="3048120"/>
            <a:chOff x="5067360" y="2705040"/>
            <a:chExt cx="1276200" cy="3048120"/>
          </a:xfrm>
        </p:grpSpPr>
        <p:sp>
          <p:nvSpPr>
            <p:cNvPr id="300" name=""/>
            <p:cNvSpPr/>
            <p:nvPr/>
          </p:nvSpPr>
          <p:spPr>
            <a:xfrm>
              <a:off x="5067360" y="270504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67360" y="31244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35434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160" y="396252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7360" y="44006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86440" y="48387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5160" y="529596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4920" y="251784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895480"/>
            <a:ext cx="89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9160" y="1285920"/>
            <a:ext cx="156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2320" y="1305000"/>
            <a:ext cx="26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f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6320" y="37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9527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3148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76640" y="37339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57560" y="417204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7560" y="45910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76640" y="50482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76640" y="55054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3E2-9F28-495E-9192-09399CAD284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140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very DCOM objects must implement the </a:t>
            </a:r>
            <a:r>
              <a:rPr b="1" lang="en-GB" sz="2900" spc="-1" strike="noStrike">
                <a:solidFill>
                  <a:srgbClr val="0099cc"/>
                </a:solidFill>
                <a:latin typeface="Times New Roman"/>
              </a:rPr>
              <a:t>IUnknow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clients can use it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lifetim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over the interfaces the object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295800"/>
            <a:ext cx="2610000" cy="24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11760" y="3971880"/>
            <a:ext cx="13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134200" y="260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134040" y="379044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095880" y="462888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095880" y="5372280"/>
            <a:ext cx="7430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4080" y="19144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9200" y="4067280"/>
            <a:ext cx="1886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20840" y="3228840"/>
            <a:ext cx="1905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8640" y="48290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882-FF5F-42B2-B553-40EFC8E58A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server contains one or more object classes identified its ow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lient asks for an object of a give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creates a new object by a 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class fact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pointer of the primary interface of the new object is returned to the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not an object, it is an EXE or DLL (or Java class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D39-5DF2-44EA-9C6B-7EF12DE880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Structure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15040" y="2552760"/>
            <a:ext cx="2971800" cy="3371760"/>
            <a:chOff x="5315040" y="2552760"/>
            <a:chExt cx="2971800" cy="3371760"/>
          </a:xfrm>
        </p:grpSpPr>
        <p:sp>
          <p:nvSpPr>
            <p:cNvPr id="335" name=""/>
            <p:cNvSpPr/>
            <p:nvPr/>
          </p:nvSpPr>
          <p:spPr>
            <a:xfrm>
              <a:off x="5315040" y="2552760"/>
              <a:ext cx="2971800" cy="337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1320" y="2838240"/>
              <a:ext cx="1942920" cy="10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0400" y="4209840"/>
              <a:ext cx="1923840" cy="1066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2920" y="2866680"/>
              <a:ext cx="130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Ob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2760" y="4257360"/>
              <a:ext cx="13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0120" y="5362200"/>
              <a:ext cx="239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41280" y="58770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EXE or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705720" y="1752120"/>
            <a:ext cx="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64120" y="15717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95720" y="318132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95720" y="358128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133880" y="474336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4360" y="294336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32440" y="4124160"/>
            <a:ext cx="24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A0B-6B66-430D-982A-519796BB63C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mplement a class factory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for each CLS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ass can support licensing (IClassFactory2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gister the classes it suppor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registry entry for every CLSID with the pathname to the EXE or DLL of the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nitialise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Initializ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DCOM library provides run-time services and AP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DBB-38E9-4527-82C9-67DBAFB2555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Verify that the library is a compatible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BuildVersio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rovide an unloading mechani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o terminate the objects without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ninitialis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f there are no objects with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602-544A-49C2-80EA-7C9F4A3CD1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8560" y="1220760"/>
            <a:ext cx="9542880" cy="4942080"/>
            <a:chOff x="358560" y="1220760"/>
            <a:chExt cx="9542880" cy="4942080"/>
          </a:xfrm>
        </p:grpSpPr>
        <p:grpSp>
          <p:nvGrpSpPr>
            <p:cNvPr id="355" name=""/>
            <p:cNvGrpSpPr/>
            <p:nvPr/>
          </p:nvGrpSpPr>
          <p:grpSpPr>
            <a:xfrm>
              <a:off x="430200" y="1524240"/>
              <a:ext cx="2228760" cy="1009440"/>
              <a:chOff x="430200" y="1524240"/>
              <a:chExt cx="2228760" cy="100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430200" y="152424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0200" y="200052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30200" y="3124440"/>
              <a:ext cx="2628360" cy="1009440"/>
              <a:chOff x="430200" y="3124440"/>
              <a:chExt cx="2628360" cy="100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430200" y="3124440"/>
                <a:ext cx="26283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0200" y="3600720"/>
                <a:ext cx="262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49280" y="4838760"/>
              <a:ext cx="2971440" cy="1009440"/>
              <a:chOff x="449280" y="4838760"/>
              <a:chExt cx="2971440" cy="100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49280" y="4838760"/>
                <a:ext cx="29714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9280" y="5315040"/>
                <a:ext cx="297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163760" y="3124440"/>
              <a:ext cx="2609640" cy="1009440"/>
              <a:chOff x="4163760" y="3124440"/>
              <a:chExt cx="2609640" cy="100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4163760" y="3124440"/>
                <a:ext cx="26096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63760" y="3600720"/>
                <a:ext cx="26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964200" y="4534200"/>
              <a:ext cx="2361960" cy="1618920"/>
              <a:chOff x="6964200" y="4534200"/>
              <a:chExt cx="2361960" cy="1618920"/>
            </a:xfrm>
          </p:grpSpPr>
          <p:sp>
            <p:nvSpPr>
              <p:cNvPr id="368" name=""/>
              <p:cNvSpPr/>
              <p:nvPr/>
            </p:nvSpPr>
            <p:spPr>
              <a:xfrm>
                <a:off x="6964200" y="4534200"/>
                <a:ext cx="2361960" cy="1618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64200" y="5297760"/>
                <a:ext cx="236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964200" y="1600200"/>
              <a:ext cx="2228760" cy="1009440"/>
              <a:chOff x="6964200" y="1600200"/>
              <a:chExt cx="2228760" cy="1009440"/>
            </a:xfrm>
          </p:grpSpPr>
          <p:sp>
            <p:nvSpPr>
              <p:cNvPr id="371" name=""/>
              <p:cNvSpPr/>
              <p:nvPr/>
            </p:nvSpPr>
            <p:spPr>
              <a:xfrm>
                <a:off x="6964200" y="160020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64200" y="207648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873360" y="153360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6120" y="31338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0240" y="486756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4360" y="313380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ompon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2600" y="159084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Unknow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040" y="444816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nterface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5000" y="20415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all_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000" y="5356440"/>
              <a:ext cx="29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Initialize/Uninitial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11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3960" y="213696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5800" y="5337360"/>
              <a:ext cx="219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ervice_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8960" y="1752840"/>
              <a:ext cx="430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39880" y="2229120"/>
              <a:ext cx="36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78400" y="2229120"/>
              <a:ext cx="146700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7897320" y="2628720"/>
              <a:ext cx="19080" cy="192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9840" y="3543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611000" y="2552760"/>
              <a:ext cx="1908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48440" y="4152960"/>
              <a:ext cx="1908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11160" y="4114800"/>
              <a:ext cx="1847880" cy="12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25760" y="4305600"/>
              <a:ext cx="857160" cy="10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40520" y="331632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&lt;extends&gt;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6240" y="1220760"/>
              <a:ext cx="47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k for a reference to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1480" y="219240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ll a service on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35720" y="50770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6360" y="30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1680" y="313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5720" y="27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6640" y="2448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1160" y="261144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ate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84360" y="358308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6760" y="46879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5F1-7E98-4646-9DA0-2C783301AA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ree kind of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in-process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process space of the server and client is the same (DLL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local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rver is in a separate process on the same machine (EX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remote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parate process on a remote machni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7E7-6B8F-4784-8400-4539F0236E6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9840" y="1123920"/>
            <a:ext cx="9563040" cy="5073120"/>
            <a:chOff x="339840" y="1123920"/>
            <a:chExt cx="9563040" cy="5073120"/>
          </a:xfrm>
        </p:grpSpPr>
        <p:sp>
          <p:nvSpPr>
            <p:cNvPr id="409" name=""/>
            <p:cNvSpPr/>
            <p:nvPr/>
          </p:nvSpPr>
          <p:spPr>
            <a:xfrm>
              <a:off x="5394600" y="3989520"/>
              <a:ext cx="4309920" cy="19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6760" y="3448080"/>
              <a:ext cx="4533840" cy="262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2600" y="2533680"/>
              <a:ext cx="1981080" cy="3600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3520" y="1123920"/>
              <a:ext cx="1962000" cy="1295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120" y="2838600"/>
              <a:ext cx="1581120" cy="1257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4840" y="300060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App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044880" y="2543400"/>
              <a:ext cx="1695600" cy="1373760"/>
              <a:chOff x="3044880" y="2543400"/>
              <a:chExt cx="1695600" cy="1373760"/>
            </a:xfrm>
          </p:grpSpPr>
          <p:sp>
            <p:nvSpPr>
              <p:cNvPr id="416" name=""/>
              <p:cNvSpPr/>
              <p:nvPr/>
            </p:nvSpPr>
            <p:spPr>
              <a:xfrm>
                <a:off x="3044880" y="2629080"/>
                <a:ext cx="1695600" cy="1256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14880" y="2543400"/>
                <a:ext cx="1230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Lo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102120" y="4448160"/>
              <a:ext cx="1676520" cy="1373760"/>
              <a:chOff x="3102120" y="4448160"/>
              <a:chExt cx="1676520" cy="137376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2120" y="4515120"/>
                <a:ext cx="1676520" cy="12762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98680" y="4448160"/>
                <a:ext cx="13435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373200" y="3870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6680" y="573732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840" y="1143000"/>
              <a:ext cx="4724280" cy="504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840" y="1362240"/>
              <a:ext cx="13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396880" y="1162080"/>
              <a:ext cx="2324520" cy="847440"/>
              <a:chOff x="2396880" y="1162080"/>
              <a:chExt cx="2324520" cy="847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52720" y="1162080"/>
                <a:ext cx="1768680" cy="847440"/>
                <a:chOff x="2952720" y="1162080"/>
                <a:chExt cx="1768680" cy="84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968560" y="1162080"/>
                  <a:ext cx="1638360" cy="799920"/>
                </a:xfrm>
                <a:prstGeom prst="rect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52720" y="1184040"/>
                  <a:ext cx="1768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In-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 flipH="1">
                <a:off x="2396880" y="1371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96880" y="1733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flipH="1">
              <a:off x="2454120" y="3029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435040" y="3676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92280" y="4934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473200" y="5505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054520" y="1581120"/>
              <a:ext cx="190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73240" y="34480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2320" y="3714840"/>
              <a:ext cx="304920" cy="14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55680" y="1736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701120" y="4340160"/>
              <a:ext cx="1724040" cy="847800"/>
              <a:chOff x="7701120" y="4340160"/>
              <a:chExt cx="1724040" cy="847800"/>
            </a:xfrm>
          </p:grpSpPr>
          <p:sp>
            <p:nvSpPr>
              <p:cNvPr id="440" name=""/>
              <p:cNvSpPr/>
              <p:nvPr/>
            </p:nvSpPr>
            <p:spPr>
              <a:xfrm>
                <a:off x="7716240" y="4340160"/>
                <a:ext cx="1596960" cy="8182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1120" y="4362480"/>
                <a:ext cx="1724040" cy="825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7159320" y="45547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59320" y="49244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29400" y="4357800"/>
              <a:ext cx="9097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2400" y="4457880"/>
              <a:ext cx="46368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34440" y="51465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38960" y="5203800"/>
              <a:ext cx="21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3120" y="385128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3520" y="1241640"/>
              <a:ext cx="4419360" cy="2092320"/>
              <a:chOff x="5483520" y="1241640"/>
              <a:chExt cx="4419360" cy="20923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7292880" y="1714680"/>
                <a:ext cx="2323440" cy="847440"/>
                <a:chOff x="7292880" y="1714680"/>
                <a:chExt cx="2323440" cy="84744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7848000" y="1714680"/>
                  <a:ext cx="1768320" cy="847440"/>
                  <a:chOff x="7848000" y="1714680"/>
                  <a:chExt cx="1768320" cy="84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7863480" y="1714680"/>
                    <a:ext cx="1638000" cy="799920"/>
                  </a:xfrm>
                  <a:prstGeom prst="rect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48000" y="1736640"/>
                    <a:ext cx="17683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Loc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Objec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 flipH="1">
                  <a:off x="7292880" y="192420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7292880" y="228636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5826240" y="1733760"/>
                <a:ext cx="933120" cy="8002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21560" y="1867320"/>
                <a:ext cx="475920" cy="1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0200" y="25372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829280" y="25750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83520" y="1314720"/>
                <a:ext cx="4419360" cy="2019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75720" y="124164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 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870160" y="19083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5680" y="4651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9000" y="348948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emote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740480" y="2095200"/>
              <a:ext cx="1085760" cy="11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778640" y="4705200"/>
              <a:ext cx="9522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8520" y="4917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10120" y="27241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L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C68-0738-4BB5-9A8E-E3ABCAD6CB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Scenario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9960" y="1257480"/>
            <a:ext cx="19051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2960" y="13748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67200" y="125748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1257480"/>
            <a:ext cx="2228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58280" y="369576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8116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1981080"/>
            <a:ext cx="11448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35960" y="4400640"/>
            <a:ext cx="74520" cy="15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438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31640" y="205272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1: CoGet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1400" y="247176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2: CoRegister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076280" y="293364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6200" y="346716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86400" y="3024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3: CreateInstance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58040" y="39816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41120" y="351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4: 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4590720"/>
            <a:ext cx="7239240" cy="1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80960" y="412920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5: Obtai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25780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095360" y="584820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27160" y="53672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8: CoRevoke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9880" y="4795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7: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2471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(CLS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42080" y="3813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My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4040" y="1432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25240" y="13748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DCO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AD4-3A68-482B-BCCD-B14CA908BABD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has no persistent sta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not be distinguished from copies of its 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sible exceptions: non-functional attributes (for example license numbe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 be loaded into and activated in a particular system several times. The number of available copies is not meaningfu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661-CA39-4740-BAE0-D94B8213FE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1. The client requests a pointer to the class factor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gives the CLSID of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. The server instantiates a class factory and register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3. The client requests an instance of this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ClassFactory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reates and instantiates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IID to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982-BCB7-432A-822D-D94403FF060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4. The factory creates an instance of the cla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t returns to the client a pointer for the requested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5. The client interacts with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6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7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Classfaxtory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8. The server is shut dow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4FB-BEF2-4D2F-9170-0301C0ECF4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ponents based on Microsoft 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 objects that implement a predefined set of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may be implemented and used in any programming languag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re is a bridge tool between JavaBeans and ActiveX Contr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E06-BA52-4473-B510-F629FE697B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with the predefined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9067680" cy="44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FE0-69DB-4AFD-BB11-59B0299CC9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33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87000"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92203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851-8F04-4592-9347-758DFC1D2A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-based programm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emens Szyperski: Component Software. Beyond the Object-Oriented Progra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son-Wesley, 199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DC0-5C18-49E1-9BB3-6BB294CA12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obert Orfali, Dan Harkey: Client/Server Programming with JAVA and CORBA (2nd Ed.)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ohn Wiley &amp; Sons, Inc, 19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066-F8B2-4A9C-A953-C8F17D6DD2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chard Grimes: Professional DCOM program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rox Press Ltd.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552-2191-43D5-A7B3-BBEC0A1A0E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versus O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it of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no persistent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featur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068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instanti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"plan" (class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ass: unit of re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(persistent)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state and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8FE-A63E-409E-B011-3E65EF8F9A52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finition of the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literature offers several different definition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e use the following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lemens Szyperski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(Component Software, p.34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"A software component is a unit of composition with contractually specified interfaces and explicit context dependencies only. A software component can be deployed independently and is subject to composition by third parties.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702-30D8-42E7-8EDE-58581F29E4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a unit of composition with contractually specified interfac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 interface is an access point for the client to the services of the compon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rovide multiple interfaces for different client nee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irect (procedural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directly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53C-F8DC-4CB4-9A50-22F53A8F33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csor Lajos</dc:creator>
  <dc:description/>
  <dc:language>en-US</dc:language>
  <cp:lastModifiedBy>Ficsor Lajos</cp:lastModifiedBy>
  <cp:lastPrinted>2000-09-06T14:26:37Z</cp:lastPrinted>
  <dcterms:modified xsi:type="dcterms:W3CDTF">2001-09-26T16:03:32Z</dcterms:modified>
  <cp:revision>1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Oktatas\Infrendsz\Infrendsz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