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F2D5-C28C-448F-87E5-E2CEF301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4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4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5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7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7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8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19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19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0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0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0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0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31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ay use special HTML documents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ather information from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ar as the httpd server is concerned, scripts that use forms work just the same as any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 script that uses a form must be carefully constructed to correctly collect input from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ep-by-step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how scripts and forms work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s of the co-operation of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16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 the form from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user fill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illed-in form is sent to the web server, and the search i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 1: Get the form from the serv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8880" y="1447920"/>
            <a:ext cx="79898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-4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Essentially the same as any 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0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0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2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3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8:36Z</dcterms:modified>
  <cp:revision>179</cp:revision>
  <dc:subject/>
  <dc:title>Title</dc:title>
</cp:coreProperties>
</file>