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90920" y="1752480"/>
            <a:ext cx="44956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Java Programming Environme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lling the Java Compiler and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course is based on the following boo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y Cornell and Cay S. Horstman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e 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nSoft Press, A Prentice Hall Title, 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nents of the Java CD belonging to the boo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ava Development Kit (JDK) 1.02 for Windows NT/Windows 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mote Method Invocation (RMI) Alpha 2 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ava Database Connectivity (JDBC) releas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D-ROM comes with an installation program that unpacks the files needed for automatic installation of the Windows NT/ Windows 95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D-ROM also includes Solaris and Macintosh files. The Solaris files are in tar format, and the Macintosh files are self-extracting archives. You will need to unpack these archives manually and follow the installation instructions on the CD-ROM for these platfor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1143000"/>
            <a:ext cx="5333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ing and Running Java Application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55627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c filenam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name.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unning the co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 fil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040" y="1676520"/>
            <a:ext cx="57150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ercise 1 (simple Java application program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the \CoreJavaBook\ch2\Welcome 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and run the Welcome.java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y the Welcome.java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ercise 2 (graphical application program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the \CoreJavaBook\ch2\ImageViewer 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and run the ImageViewer.java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y the ImageViewer.java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91440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ing and Running Java App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60958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c filename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name.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unning the co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etviewer filenam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ercise 3 (applet inside a Web browse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the \CoreJavaBook\ch2\WelcomeApplet 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 and run the WelcomeApplet.java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he applet with Netscape (two clicks on WelcomeApplet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difference? Answer: The applet-viewer displays only that part of the html file which is bracketed by &lt;APPLET … &lt;/APPL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y the WelcomeApplet.java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y the WelcomeApplet.html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bugging Java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 print the value of any variable with code like th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”x = ” +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a number, it is converted to its string equivalent. 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an object, then Java calls it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get the state of the current object, pri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”Current object: ” + 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get a print-out of all instance fiel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ing the JDB debugg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JDK includes, an extremely rudimentary command-line debugger. To use JDB you should compile your program with the -g op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avac -g filename.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n you launch the debugg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db fil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ost Important Debugging Commands of J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 in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ass.meth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s a breakpoint in a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 at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ass:lin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s a breakpoint at a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ear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ass:lin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ears a break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u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ts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inues execution from break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e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ecutes the curren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 [n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s up a thread’s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[n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s down a thread’s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nts all current loc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sts currently known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tho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sts a class’s meth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[line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nts source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name(s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nts object or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ump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name(s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nts all object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(or ?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sts comm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its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6T07:38:33Z</dcterms:created>
  <dc:creator>kacsuk</dc:creator>
  <dc:description/>
  <dc:language>en-US</dc:language>
  <cp:lastModifiedBy>kacsuk</cp:lastModifiedBy>
  <dcterms:modified xsi:type="dcterms:W3CDTF">1999-09-19T21:02:55Z</dcterms:modified>
  <cp:revision>46</cp:revision>
  <dc:subject/>
  <dc:title>The Vocabulary of OOP</dc:title>
</cp:coreProperties>
</file>