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361960" y="1218960"/>
            <a:ext cx="42670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Chapter 8 : APPL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05120" y="2514600"/>
            <a:ext cx="586728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Applet Bas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Converting Applications to Appl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The Applet HTML T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Passing information to Appl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Dialog Boxes in Appl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Multi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The Applet 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The Life Cycle of an App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It’s an Applet. It’s an Application. It’s Both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828800" y="762120"/>
            <a:ext cx="5715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c0128"/>
                </a:solidFill>
                <a:latin typeface="Times New Roman"/>
              </a:rPr>
              <a:t>Passing Information to Applets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9960" y="1413000"/>
            <a:ext cx="801684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public String[][] getParameterInfo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t returns with an array of PARAM tag options that the current applet supports. Each row contains three entries concerning the paramet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Courier New"/>
              </a:rPr>
              <a:t>„</a:t>
            </a:r>
            <a:r>
              <a:rPr b="0" lang="hu-HU" sz="1600" spc="-1" strike="noStrike">
                <a:solidFill>
                  <a:srgbClr val="000000"/>
                </a:solidFill>
                <a:latin typeface="Courier New"/>
              </a:rPr>
              <a:t>duration”, „1-100”, „duration of soun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Courier New"/>
              </a:rPr>
              <a:t>„</a:t>
            </a:r>
            <a:r>
              <a:rPr b="0" lang="hu-HU" sz="1600" spc="-1" strike="noStrike">
                <a:solidFill>
                  <a:srgbClr val="000000"/>
                </a:solidFill>
                <a:latin typeface="Courier New"/>
              </a:rPr>
              <a:t>repeat”, „boolean”, „repeat the sound?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public String getAppletInfo(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he string contains information about the author, version, and copyright of the current appl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he size of applets embedded in a Web page is fix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here is an option to create pop-up dialog boxes or men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05120" y="533520"/>
            <a:ext cx="5715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c0128"/>
                </a:solidFill>
                <a:latin typeface="Times New Roman"/>
              </a:rPr>
              <a:t>Dialog Boxes in Applet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2362320"/>
            <a:ext cx="5943600" cy="4143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public class PopupCalculatorApplet extends Applet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public void init() {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add(new Button("Calculator"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public boolean action(Event evt, Object arg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if (arg.equals("Calculator")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if (calc.isShowing()) calc.hid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else </a:t>
            </a:r>
            <a:r>
              <a:rPr b="1" lang="hu-HU" sz="1400" spc="-1" strike="noStrike">
                <a:solidFill>
                  <a:srgbClr val="fc0128"/>
                </a:solidFill>
                <a:latin typeface="Courier New"/>
              </a:rPr>
              <a:t>calc.show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else return super.action(evt, arg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1400" spc="-1" strike="noStrike">
                <a:solidFill>
                  <a:srgbClr val="fc0128"/>
                </a:solidFill>
                <a:latin typeface="Courier New"/>
              </a:rPr>
              <a:t>private Frame calc = new Calculator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class Calculator extends Frame 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05120" y="533520"/>
            <a:ext cx="5715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c0128"/>
                </a:solidFill>
                <a:latin typeface="Times New Roman"/>
              </a:rPr>
              <a:t>Multimedi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6002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pplets can retrieve images and audio files with the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getImag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getAudioClip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2666880"/>
            <a:ext cx="7772400" cy="520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Image cat = </a:t>
            </a:r>
            <a:r>
              <a:rPr b="1" lang="hu-HU" sz="1400" spc="-1" strike="noStrike">
                <a:solidFill>
                  <a:srgbClr val="fc0128"/>
                </a:solidFill>
                <a:latin typeface="Courier New"/>
              </a:rPr>
              <a:t>getImage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hu-HU" sz="1400" spc="-1" strike="noStrike">
                <a:solidFill>
                  <a:srgbClr val="fc0128"/>
                </a:solidFill>
                <a:latin typeface="Courier New"/>
              </a:rPr>
              <a:t>getDocumentBase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(), „image/cat.gif”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AudioClip meow = </a:t>
            </a:r>
            <a:r>
              <a:rPr b="1" lang="hu-HU" sz="1400" spc="-1" strike="noStrike">
                <a:solidFill>
                  <a:srgbClr val="fc0128"/>
                </a:solidFill>
                <a:latin typeface="Courier New"/>
              </a:rPr>
              <a:t>getAudioClip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hu-HU" sz="1400" spc="-1" strike="noStrike">
                <a:solidFill>
                  <a:srgbClr val="fc0128"/>
                </a:solidFill>
                <a:latin typeface="Courier New"/>
              </a:rPr>
              <a:t>getDocumentBase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(), „audio/meow.au”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22240" y="3660840"/>
            <a:ext cx="76359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getDocumentBase()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method returns the URL from which our applet is loa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udio clips can be played by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play()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method of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Applet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c0128"/>
                </a:solidFill>
                <a:latin typeface="Courier New"/>
              </a:rPr>
              <a:t>play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(getDocumentBase(), „audio/meow.au”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905120" y="533520"/>
            <a:ext cx="5715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c0128"/>
                </a:solidFill>
                <a:latin typeface="Times New Roman"/>
              </a:rPr>
              <a:t>The Applet Contex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14300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pplets run inside an internet browser or the applet vie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pplets can ask the browser/viewer to fetch an audio clip, show a short message in the status line, etc. using the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AppletContext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657600"/>
            <a:ext cx="3657600" cy="533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numeration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getApplet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3657600"/>
            <a:ext cx="3657600" cy="53352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eturns an enumeration of all the appl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n the same Web p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4267080"/>
            <a:ext cx="3657600" cy="533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pple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getApple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String nam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4267080"/>
            <a:ext cx="3657600" cy="53352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eturns the applet in the current Web p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with given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4876920"/>
            <a:ext cx="365760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howDocumen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URL ur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howDocumen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URL url, String targ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48320" y="4876920"/>
            <a:ext cx="3657600" cy="53316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how a new Web page in a 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arget --&gt; _self | _parent | _top | _bl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5486400"/>
            <a:ext cx="3657600" cy="533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mage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getImage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URL ur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5486400"/>
            <a:ext cx="3657600" cy="53352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eturns an image object that encapsulat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he image specified by the UR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6095880"/>
            <a:ext cx="3657600" cy="533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udioClip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getAudioClip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URL ur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6095880"/>
            <a:ext cx="3657600" cy="53352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eturns an AudioClip object, which st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he sound file specified by the UR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3048120"/>
            <a:ext cx="365760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howStatu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String ms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3048120"/>
            <a:ext cx="3657600" cy="53316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hows the string in the status 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1120" y="32004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91120" y="380988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441972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50292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91120" y="563868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624852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05120" y="533520"/>
            <a:ext cx="5715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c0128"/>
                </a:solidFill>
                <a:latin typeface="Times New Roman"/>
              </a:rPr>
              <a:t>The Applet Context</a:t>
            </a:r>
            <a:br>
              <a:rPr sz="2800"/>
            </a:br>
            <a:r>
              <a:rPr b="1" lang="hu-HU" sz="1800" spc="-1" strike="noStrike">
                <a:solidFill>
                  <a:srgbClr val="fc0128"/>
                </a:solidFill>
                <a:latin typeface="Times New Roman"/>
              </a:rPr>
              <a:t>Inter-Applet Communication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1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6280" y="1565280"/>
            <a:ext cx="702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pplets can communicate with each other if they sit on the same Web 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2438280"/>
            <a:ext cx="6934320" cy="5806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&lt;APPLET CODE=„myApplet.class” WIDTH=100 HEIGHT=100 NAME=„</a:t>
            </a:r>
            <a:r>
              <a:rPr b="1" lang="hu-HU" sz="1600" spc="-1" strike="noStrike">
                <a:solidFill>
                  <a:srgbClr val="618ffd"/>
                </a:solidFill>
                <a:latin typeface="Courier New"/>
              </a:rPr>
              <a:t>MyApplet1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”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82520" y="3159000"/>
            <a:ext cx="6918480" cy="8240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Applet otherApplet =                      getAppletContext().</a:t>
            </a:r>
            <a:r>
              <a:rPr b="1" lang="hu-HU" sz="1600" spc="-1" strike="noStrike">
                <a:solidFill>
                  <a:srgbClr val="fc0128"/>
                </a:solidFill>
                <a:latin typeface="Courier New"/>
              </a:rPr>
              <a:t>getApplet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(„</a:t>
            </a:r>
            <a:r>
              <a:rPr b="1" lang="hu-HU" sz="1600" spc="-1" strike="noStrike">
                <a:solidFill>
                  <a:srgbClr val="618ffd"/>
                </a:solidFill>
                <a:latin typeface="Courier New"/>
              </a:rPr>
              <a:t>MyApplet1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((myApplet)otherApplet).setData(10,”Hello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02280" y="5238720"/>
            <a:ext cx="6337800" cy="131076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Enumeration e = getAppletContext().</a:t>
            </a:r>
            <a:r>
              <a:rPr b="1" lang="hu-HU" sz="1600" spc="-1" strike="noStrike">
                <a:solidFill>
                  <a:srgbClr val="fc0128"/>
                </a:solidFill>
                <a:latin typeface="Courier New"/>
              </a:rPr>
              <a:t>getApplets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while (e.hasMoreElements(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Object a = e.nextEleme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System.out.println(a.getClass().getName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4114800"/>
            <a:ext cx="702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We can get references of each applet with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getApplets()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606840" y="380880"/>
            <a:ext cx="5209920" cy="61171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import java.applet.*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import java.net.*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public class Bookmark extends </a:t>
            </a:r>
            <a:r>
              <a:rPr b="1" lang="hu-HU" sz="1200" spc="-1" strike="noStrike">
                <a:solidFill>
                  <a:srgbClr val="fc0128"/>
                </a:solidFill>
                <a:latin typeface="Courier New"/>
              </a:rPr>
              <a:t>App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{  public void init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{  </a:t>
            </a:r>
            <a:r>
              <a:rPr b="1" lang="hu-HU" sz="1200" spc="-1" strike="noStrike">
                <a:solidFill>
                  <a:srgbClr val="fc0128"/>
                </a:solidFill>
                <a:latin typeface="Courier New"/>
              </a:rPr>
              <a:t>setLayout(new BorderLayout(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add("Center", links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int i = 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String 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while ((s = </a:t>
            </a:r>
            <a:r>
              <a:rPr b="1" lang="hu-HU" sz="1200" spc="-1" strike="noStrike">
                <a:solidFill>
                  <a:srgbClr val="fc0128"/>
                </a:solidFill>
                <a:latin typeface="Courier New"/>
              </a:rPr>
              <a:t>getParameter</a:t>
            </a: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("link_" + i)) != nu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{  links.addItem(s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public boolean action(Event evt, Object ar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{  if (evt.target == link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{  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{  AppletContext context = </a:t>
            </a:r>
            <a:r>
              <a:rPr b="1" lang="hu-HU" sz="1200" spc="-1" strike="noStrike">
                <a:solidFill>
                  <a:srgbClr val="fc0128"/>
                </a:solidFill>
                <a:latin typeface="Courier New"/>
              </a:rPr>
              <a:t>getAppletContext</a:t>
            </a: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URL u = new URL((String)arg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context.</a:t>
            </a:r>
            <a:r>
              <a:rPr b="1" lang="hu-HU" sz="1200" spc="-1" strike="noStrike">
                <a:solidFill>
                  <a:srgbClr val="fc0128"/>
                </a:solidFill>
                <a:latin typeface="Courier New"/>
              </a:rPr>
              <a:t>showDocument</a:t>
            </a: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(u, "right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} catch(Exception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{  showStatus("Error " + 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else return super.action(evt, arg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private List links = new List(10, fals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304920"/>
            <a:ext cx="2590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c0128"/>
                </a:solidFill>
                <a:latin typeface="Times New Roman"/>
              </a:rPr>
              <a:t>EXERCISE -</a:t>
            </a:r>
            <a:br>
              <a:rPr sz="2800"/>
            </a:br>
            <a:r>
              <a:rPr b="1" lang="hu-HU" sz="2800" spc="-1" strike="noStrike">
                <a:solidFill>
                  <a:srgbClr val="fc0128"/>
                </a:solidFill>
                <a:latin typeface="Times New Roman"/>
              </a:rPr>
              <a:t>Book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335304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46880" y="838080"/>
            <a:ext cx="7115040" cy="24382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&lt;HTML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&lt;HEAD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&lt;TITLE&gt;Bookmark Applet&lt;/TITLE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&lt;/HEAD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&lt;FRAMESET COLS="320,*"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&lt;FRAME NAME="left" SRC="Left.html" MARGINHEIGHT=2 MARGINWIDTH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SCROLLING = "no" NORESIZE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&lt;FRAME NAME="right" SRC="Right.html" MARGINHEIGHT=2 MARGINWIDTH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SCROLLING = "yes" NORESIZE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&lt;/FRAMESET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3920" y="3429000"/>
            <a:ext cx="8715240" cy="32907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&lt;TITLE&gt;A Bookmark Applet&lt;/TIT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Please bouble-click on one of the links listed below. The corresponding web p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will be displayed on the righ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&lt;P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c0128"/>
                </a:solidFill>
                <a:latin typeface="Courier New"/>
              </a:rPr>
              <a:t>&lt;APPLET CODE="Bookmark.class" WIDTH=290 HEIGHT=300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c0128"/>
                </a:solidFill>
                <a:latin typeface="Courier New"/>
              </a:rPr>
              <a:t>&lt;PARAM NAME=link_1 VALUE="http://java.sun.com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c0128"/>
                </a:solidFill>
                <a:latin typeface="Courier New"/>
              </a:rPr>
              <a:t>&lt;PARAM NAME=link_2 VALUE="http://www.lpds.sztaki.hu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c0128"/>
                </a:solidFill>
                <a:latin typeface="Courier New"/>
              </a:rPr>
              <a:t>&lt;PARAM NAME=link_3 VALUE="http://www.sun.com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c0128"/>
                </a:solidFill>
                <a:latin typeface="Courier New"/>
              </a:rPr>
              <a:t>&lt;PARAM NAME=link_4 VALUE="http://www.hotmail.com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c0128"/>
                </a:solidFill>
                <a:latin typeface="Courier New"/>
              </a:rPr>
              <a:t>&lt;PARAM NAME=link_5 VALUE="http://www.netscape.com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c0128"/>
                </a:solidFill>
                <a:latin typeface="Courier New"/>
              </a:rPr>
              <a:t>&lt;/APPLE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76320"/>
            <a:ext cx="723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c0128"/>
                </a:solidFill>
                <a:latin typeface="Times New Roman"/>
              </a:rPr>
              <a:t>EXERCISE - Book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905120" y="152280"/>
            <a:ext cx="5715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c0128"/>
                </a:solidFill>
                <a:latin typeface="Times New Roman"/>
              </a:rPr>
              <a:t>The Life Cycle of an Ap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2438280"/>
            <a:ext cx="1752480" cy="6858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in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3733920"/>
            <a:ext cx="1752480" cy="6858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3733920"/>
            <a:ext cx="1752840" cy="6858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10280" y="2438280"/>
            <a:ext cx="1752840" cy="6858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destroy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2514600"/>
            <a:ext cx="76176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2100000">
            <a:off x="2438280" y="32767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43400" y="38862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276720" y="4648320"/>
            <a:ext cx="2743200" cy="685800"/>
          </a:xfrm>
          <a:custGeom>
            <a:avLst/>
            <a:gdLst>
              <a:gd name="textAreaLeft" fmla="*/ 479880 w 2743200"/>
              <a:gd name="textAreaRight" fmla="*/ 1989000 w 274320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9500000">
            <a:off x="6781320" y="32767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257080" y="990720"/>
            <a:ext cx="2133720" cy="1295280"/>
          </a:xfrm>
          <a:prstGeom prst="cloudCallout">
            <a:avLst>
              <a:gd name="adj1" fmla="val -65550"/>
              <a:gd name="adj2" fmla="val 5649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reclaiming any 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non-memorydependent 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838080"/>
            <a:ext cx="2743200" cy="129564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processing PARAM val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adding GUI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4648320"/>
            <a:ext cx="2743200" cy="1600200"/>
          </a:xfrm>
          <a:prstGeom prst="cloudCallout">
            <a:avLst>
              <a:gd name="adj1" fmla="val 37675"/>
              <a:gd name="adj2" fmla="val -7023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(re)start threads for the app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628680" y="5029200"/>
            <a:ext cx="2133720" cy="1295280"/>
          </a:xfrm>
          <a:prstGeom prst="cloudCallout">
            <a:avLst>
              <a:gd name="adj1" fmla="val 53643"/>
              <a:gd name="adj2" fmla="val -9804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stop threads for the app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828800" y="380880"/>
            <a:ext cx="5715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c0128"/>
                </a:solidFill>
                <a:latin typeface="Times New Roman"/>
              </a:rPr>
              <a:t>The Life Cycle of an Ap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6280" y="1768320"/>
            <a:ext cx="786420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void init()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: this method is called when the applet is first loa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void start()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: this method automatically call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fter Java calls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ini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when the user returns to the page containing the app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void stop()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: this method is automatically called when the user moves off the page on which the applet s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void destroy()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: unlike the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finalize()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method for objects, Java is guaranteed to call this method when the browser shuts down norma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304920"/>
            <a:ext cx="7467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c0128"/>
                </a:solidFill>
                <a:latin typeface="Times New Roman"/>
              </a:rPr>
              <a:t>It’s an Applet. It’s an Application. It’s Bot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600200"/>
            <a:ext cx="830592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ur target is to write a program that can b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launched as an application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viewed inside the applet viewer as an appl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1. Every class file has exactly one public class -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t must derive from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App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t must have a static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77880" y="5330880"/>
            <a:ext cx="6032880" cy="10674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public class AppletApplication </a:t>
            </a:r>
            <a:r>
              <a:rPr b="1" lang="hu-HU" sz="1600" spc="-1" strike="noStrike">
                <a:solidFill>
                  <a:srgbClr val="fc0128"/>
                </a:solidFill>
                <a:latin typeface="Courier New"/>
              </a:rPr>
              <a:t>extends Applet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hu-HU" sz="1600" spc="-1" strike="noStrike">
                <a:solidFill>
                  <a:srgbClr val="fc0128"/>
                </a:solidFill>
                <a:latin typeface="Courier New"/>
              </a:rPr>
              <a:t>main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(String args[]) {...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37920" y="533160"/>
            <a:ext cx="39625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c0128"/>
                </a:solidFill>
                <a:latin typeface="Times New Roman"/>
              </a:rPr>
              <a:t>Applet Basics</a:t>
            </a:r>
            <a:br>
              <a:rPr sz="2800"/>
            </a:br>
            <a:r>
              <a:rPr b="1" lang="hu-HU" sz="1600" spc="-1" strike="noStrike">
                <a:solidFill>
                  <a:srgbClr val="fc0128"/>
                </a:solidFill>
                <a:latin typeface="Times New Roman"/>
              </a:rPr>
              <a:t>Applets and HTML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Java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can be executed from the command line by having a Java interpreter that is responsible for the interpretation of the byt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Java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applets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run usually within a Web page via a Java-enabled browser (such as Netscape 2.0 or above, Internet Explorer 3.0 or above, ...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-or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 stand-alone applet viewer program can be used as well (appletviewer.ex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o load applets into the Web browser we must create an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file with Java extension tags in order to defi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he name of the clas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he location of the clas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how to applet sits on the Web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304920"/>
            <a:ext cx="7467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c0128"/>
                </a:solidFill>
                <a:latin typeface="Times New Roman"/>
              </a:rPr>
              <a:t>It’s an Applet. It’s an Application. It’s Bot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1430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pplet must be inside a frame when it is started as an application.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1901880"/>
            <a:ext cx="5029200" cy="35038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c0128"/>
                </a:solidFill>
                <a:latin typeface="Courier New"/>
              </a:rPr>
              <a:t>public class AppletFrame extends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hu-HU" sz="1400" spc="-1" strike="noStrike">
                <a:solidFill>
                  <a:srgbClr val="fc0128"/>
                </a:solidFill>
                <a:latin typeface="Courier New"/>
              </a:rPr>
              <a:t>Frame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AppletFrame(Applet a, int x, int y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setTitle(a.getClass().getName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resize(x, y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add("Center", a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a.ini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sho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a.star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public boolean handleEvent(Event evt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if (evt.id == Event.WINDOW_DESTROY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System.exit(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return super.handleEvent(ev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84240" y="5626080"/>
            <a:ext cx="6642720" cy="115956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public class AppletApplication extends Applet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public static void main(String args[]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1400" spc="-1" strike="noStrike">
                <a:solidFill>
                  <a:srgbClr val="fc0128"/>
                </a:solidFill>
                <a:latin typeface="Courier New"/>
              </a:rPr>
              <a:t>new AppletFrame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(new CalculatorApplet(), 100, 15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304920"/>
            <a:ext cx="7467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c0128"/>
                </a:solidFill>
                <a:latin typeface="Times New Roman"/>
              </a:rPr>
              <a:t>It’s an Applet. It’s an Application. It’s Bot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1584360"/>
            <a:ext cx="761976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getAppletContext()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gets a null pointer when our program is started as an application. We can avoid the crash of the program if we implement two interfa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AppletStu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Applet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91120" y="3200400"/>
            <a:ext cx="4341240" cy="32907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public class AppletFrame extends Fram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c0128"/>
                </a:solidFill>
                <a:latin typeface="Courier New"/>
              </a:rPr>
              <a:t>implements AppletStub, AppletContext 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AppletFrame(Applet a, int x, int y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setTitle(a.getClass().getName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resize(x, y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add("Center", a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i="1" lang="hu-HU" sz="1400" spc="-1" strike="noStrike">
                <a:solidFill>
                  <a:srgbClr val="fc0128"/>
                </a:solidFill>
                <a:latin typeface="Courier New"/>
              </a:rPr>
              <a:t>a.setStub(thi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a.ini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sho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a.star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31680" y="1371600"/>
            <a:ext cx="7374240" cy="52045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public class AppletFrame extends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c0128"/>
                </a:solidFill>
                <a:latin typeface="Courier New"/>
              </a:rPr>
              <a:t>implements AppletStub, Applet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{   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// AppletStub metho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hu-HU" sz="1600" spc="-1" strike="noStrike">
                <a:solidFill>
                  <a:srgbClr val="fc0128"/>
                </a:solidFill>
                <a:latin typeface="Courier New"/>
              </a:rPr>
              <a:t>isActive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() { return true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public URL </a:t>
            </a:r>
            <a:r>
              <a:rPr b="1" lang="hu-HU" sz="1600" spc="-1" strike="noStrike">
                <a:solidFill>
                  <a:srgbClr val="fc0128"/>
                </a:solidFill>
                <a:latin typeface="Courier New"/>
              </a:rPr>
              <a:t>getDocumentBase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() { return null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public URL </a:t>
            </a:r>
            <a:r>
              <a:rPr b="1" lang="hu-HU" sz="1600" spc="-1" strike="noStrike">
                <a:solidFill>
                  <a:srgbClr val="fc0128"/>
                </a:solidFill>
                <a:latin typeface="Courier New"/>
              </a:rPr>
              <a:t>getCodeBase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() { return null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public String </a:t>
            </a:r>
            <a:r>
              <a:rPr b="1" lang="hu-HU" sz="1600" spc="-1" strike="noStrike">
                <a:solidFill>
                  <a:srgbClr val="fc0128"/>
                </a:solidFill>
                <a:latin typeface="Courier New"/>
              </a:rPr>
              <a:t>getParameter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(String name) { return ""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public AppletContext </a:t>
            </a:r>
            <a:r>
              <a:rPr b="1" lang="hu-HU" sz="1600" spc="-1" strike="noStrike">
                <a:solidFill>
                  <a:srgbClr val="fc0128"/>
                </a:solidFill>
                <a:latin typeface="Courier New"/>
              </a:rPr>
              <a:t>getAppletContext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() { return this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hu-HU" sz="1600" spc="-1" strike="noStrike">
                <a:solidFill>
                  <a:srgbClr val="fc0128"/>
                </a:solidFill>
                <a:latin typeface="Courier New"/>
              </a:rPr>
              <a:t>appletResize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(int width, int height)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// AppletContext metho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public AudioClip </a:t>
            </a:r>
            <a:r>
              <a:rPr b="1" lang="hu-HU" sz="1600" spc="-1" strike="noStrike">
                <a:solidFill>
                  <a:srgbClr val="fc0128"/>
                </a:solidFill>
                <a:latin typeface="Courier New"/>
              </a:rPr>
              <a:t>getAudioClip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(URL url) { return null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public Image </a:t>
            </a:r>
            <a:r>
              <a:rPr b="1" lang="hu-HU" sz="1600" spc="-1" strike="noStrike">
                <a:solidFill>
                  <a:srgbClr val="fc0128"/>
                </a:solidFill>
                <a:latin typeface="Courier New"/>
              </a:rPr>
              <a:t>getImage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(URL url) { return null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public Applet </a:t>
            </a:r>
            <a:r>
              <a:rPr b="1" lang="hu-HU" sz="1600" spc="-1" strike="noStrike">
                <a:solidFill>
                  <a:srgbClr val="fc0128"/>
                </a:solidFill>
                <a:latin typeface="Courier New"/>
              </a:rPr>
              <a:t>getApplet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(String name) { return null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public Enumeration </a:t>
            </a:r>
            <a:r>
              <a:rPr b="1" lang="hu-HU" sz="1600" spc="-1" strike="noStrike">
                <a:solidFill>
                  <a:srgbClr val="fc0128"/>
                </a:solidFill>
                <a:latin typeface="Courier New"/>
              </a:rPr>
              <a:t>getApplets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() { return null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hu-HU" sz="1600" spc="-1" strike="noStrike">
                <a:solidFill>
                  <a:srgbClr val="fc0128"/>
                </a:solidFill>
                <a:latin typeface="Courier New"/>
              </a:rPr>
              <a:t>showDocument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(URL url)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hu-HU" sz="1600" spc="-1" strike="noStrike">
                <a:solidFill>
                  <a:srgbClr val="fc0128"/>
                </a:solidFill>
                <a:latin typeface="Courier New"/>
              </a:rPr>
              <a:t>showDocument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(URL url, String target)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hu-HU" sz="1600" spc="-1" strike="noStrike">
                <a:solidFill>
                  <a:srgbClr val="fc0128"/>
                </a:solidFill>
                <a:latin typeface="Courier New"/>
              </a:rPr>
              <a:t>showStatus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(String status)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304920"/>
            <a:ext cx="7467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c0128"/>
                </a:solidFill>
                <a:latin typeface="Times New Roman"/>
              </a:rPr>
              <a:t>It’s an Applet. It’s an Application. It’s Bot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4419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c0128"/>
                </a:solidFill>
                <a:latin typeface="Times New Roman"/>
              </a:rPr>
              <a:t>Applet Basics</a:t>
            </a:r>
            <a:br>
              <a:rPr sz="2800"/>
            </a:br>
            <a:r>
              <a:rPr b="1" lang="hu-HU" sz="1600" spc="-1" strike="noStrike">
                <a:solidFill>
                  <a:srgbClr val="fc0128"/>
                </a:solidFill>
                <a:latin typeface="Times New Roman"/>
              </a:rPr>
              <a:t>A simple applet - HTML and JAVA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236196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&lt;TITLE&gt;It’s my first applet&lt;/TITL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Here is your apple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hu-HU" sz="1600" spc="-1" strike="noStrike">
                <a:solidFill>
                  <a:srgbClr val="fc0128"/>
                </a:solidFill>
                <a:latin typeface="Courier New"/>
              </a:rPr>
              <a:t>APPLET CODE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=”HelloAgainApplet.class" </a:t>
            </a:r>
            <a:r>
              <a:rPr b="1" lang="hu-HU" sz="1600" spc="-1" strike="noStrike">
                <a:solidFill>
                  <a:srgbClr val="fc0128"/>
                </a:solidFill>
                <a:latin typeface="Courier New"/>
              </a:rPr>
              <a:t>WIDTH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=100 </a:t>
            </a:r>
            <a:r>
              <a:rPr b="1" lang="hu-HU" sz="1600" spc="-1" strike="noStrike">
                <a:solidFill>
                  <a:srgbClr val="fc0128"/>
                </a:solidFill>
                <a:latin typeface="Courier New"/>
              </a:rPr>
              <a:t>HEIGHT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=150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hu-HU" sz="1600" spc="-1" strike="noStrike">
                <a:solidFill>
                  <a:srgbClr val="fc0128"/>
                </a:solidFill>
                <a:latin typeface="Courier New"/>
              </a:rPr>
              <a:t>/APPLET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4038480"/>
            <a:ext cx="8305560" cy="25909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import java.applet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public class HelloAgainApplet extends </a:t>
            </a:r>
            <a:r>
              <a:rPr b="1" lang="hu-HU" sz="1600" spc="-1" strike="noStrike">
                <a:solidFill>
                  <a:srgbClr val="fc0128"/>
                </a:solidFill>
                <a:latin typeface="Courier New"/>
              </a:rPr>
              <a:t>Applet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public void paint (Graphics g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Font f = new Font(„System”, Font.BOLD, 18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g.setFont(f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g.drawString(„Hello World”, 25, 5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14600" y="60948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c0128"/>
                </a:solidFill>
                <a:latin typeface="Times New Roman"/>
              </a:rPr>
              <a:t>Applet Basics</a:t>
            </a:r>
            <a:br>
              <a:rPr sz="2800"/>
            </a:br>
            <a:r>
              <a:rPr b="1" lang="hu-HU" sz="1600" spc="-1" strike="noStrike">
                <a:solidFill>
                  <a:srgbClr val="fc0128"/>
                </a:solidFill>
                <a:latin typeface="Times New Roman"/>
              </a:rPr>
              <a:t>Viewing appl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3640" y="1812960"/>
            <a:ext cx="81694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here are three ways to see our applet at wor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Using Sun’s applet viewer direc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imple, fast start-up (it is important in the debugging ph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urrounding HTML text is invi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n a Web browser by loading a </a:t>
            </a:r>
            <a:r>
              <a:rPr b="0" i="1" lang="hu-HU" sz="2000" spc="-1" strike="noStrike">
                <a:solidFill>
                  <a:srgbClr val="000000"/>
                </a:solidFill>
                <a:latin typeface="Times New Roman"/>
              </a:rPr>
              <a:t>local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rowsers show the text and graphics of the page toge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generally browsers do not enforce their security restrictions for „local” appl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n a Web browser by giving an </a:t>
            </a:r>
            <a:r>
              <a:rPr b="0" i="1" lang="hu-HU" sz="2000" spc="-1" strike="noStrike">
                <a:solidFill>
                  <a:srgbClr val="000000"/>
                </a:solidFill>
                <a:latin typeface="Times New Roman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most realistic test (concerning secur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lower start-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pplets can </a:t>
            </a:r>
            <a:r>
              <a:rPr b="1" lang="hu-HU" sz="20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run any local executable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pplets </a:t>
            </a:r>
            <a:r>
              <a:rPr b="1" lang="hu-HU" sz="2000" spc="-1" strike="noStrike" u="sng">
                <a:solidFill>
                  <a:srgbClr val="000000"/>
                </a:solidFill>
                <a:uFillTx/>
                <a:latin typeface="Times New Roman"/>
              </a:rPr>
              <a:t>cannot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communicate with any host - except for the originating h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pplets </a:t>
            </a:r>
            <a:r>
              <a:rPr b="1" lang="hu-HU" sz="2000" spc="-1" strike="noStrike" u="sng">
                <a:solidFill>
                  <a:srgbClr val="000000"/>
                </a:solidFill>
                <a:uFillTx/>
                <a:latin typeface="Times New Roman"/>
              </a:rPr>
              <a:t>cannot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read or write to the local computer’s file system (if you use Netscape but this security restriction is not the part of the Java specific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pplets </a:t>
            </a:r>
            <a:r>
              <a:rPr b="1" lang="hu-HU" sz="2000" spc="-1" strike="noStrike" u="sng">
                <a:solidFill>
                  <a:srgbClr val="000000"/>
                </a:solidFill>
                <a:uFillTx/>
                <a:latin typeface="Times New Roman"/>
              </a:rPr>
              <a:t>cannot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find any information about the local computer except f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he Java version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he name and version of the operating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characters used to separate files, paths and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514240" y="609480"/>
            <a:ext cx="4419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c0128"/>
                </a:solidFill>
                <a:latin typeface="Times New Roman"/>
              </a:rPr>
              <a:t>Applet Basics</a:t>
            </a:r>
            <a:br>
              <a:rPr sz="2800"/>
            </a:br>
            <a:r>
              <a:rPr b="1" lang="hu-HU" sz="1600" spc="-1" strike="noStrike">
                <a:solidFill>
                  <a:srgbClr val="fc0128"/>
                </a:solidFill>
                <a:latin typeface="Times New Roman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05120" y="1295280"/>
            <a:ext cx="5486400" cy="312444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24280" y="4495680"/>
            <a:ext cx="2667240" cy="2057400"/>
          </a:xfrm>
          <a:prstGeom prst="rect">
            <a:avLst/>
          </a:prstGeom>
          <a:solidFill>
            <a:srgbClr val="9dfbd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4495680"/>
            <a:ext cx="2514600" cy="2057400"/>
          </a:xfrm>
          <a:prstGeom prst="rect">
            <a:avLst/>
          </a:prstGeom>
          <a:solidFill>
            <a:srgbClr val="ff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380880"/>
            <a:ext cx="5715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c0128"/>
                </a:solidFill>
                <a:latin typeface="Times New Roman"/>
              </a:rPr>
              <a:t>Convert Applications to Applets</a:t>
            </a:r>
            <a:br>
              <a:rPr sz="2800"/>
            </a:br>
            <a:r>
              <a:rPr b="1" lang="hu-HU" sz="2000" spc="-1" strike="noStrike">
                <a:solidFill>
                  <a:srgbClr val="fc0128"/>
                </a:solidFill>
                <a:latin typeface="Times New Roman"/>
              </a:rPr>
              <a:t>Background - Inheritance Di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4711680"/>
            <a:ext cx="1371600" cy="36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505320" y="425448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5702400"/>
            <a:ext cx="1371600" cy="36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666880" y="5245200"/>
            <a:ext cx="6098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5778360"/>
            <a:ext cx="1371600" cy="36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c0128"/>
                </a:solidFill>
                <a:latin typeface="Times New Roman"/>
              </a:rPr>
              <a:t>App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5867280" y="524520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711680"/>
            <a:ext cx="1371600" cy="36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5105160" y="4178160"/>
            <a:ext cx="60948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86200" y="3568680"/>
            <a:ext cx="1371600" cy="36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3962160" y="3035160"/>
            <a:ext cx="60948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2502000"/>
            <a:ext cx="1371600" cy="36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3124080" y="196848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1434960"/>
            <a:ext cx="1371600" cy="36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523880" y="2208960"/>
            <a:ext cx="1447920" cy="2971800"/>
          </a:xfrm>
          <a:custGeom>
            <a:avLst/>
            <a:gdLst>
              <a:gd name="textAreaLeft" fmla="*/ 193680 w 1447920"/>
              <a:gd name="textAreaRight" fmla="*/ 1254240 w 1447920"/>
              <a:gd name="textAreaTop" fmla="*/ 519840 h 2971800"/>
              <a:gd name="textAreaBottom" fmla="*/ 21546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Times New Roman"/>
              </a:rPr>
              <a:t>APPLICATION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8600000">
            <a:off x="5607720" y="1630800"/>
            <a:ext cx="877680" cy="3711600"/>
          </a:xfrm>
          <a:prstGeom prst="upArrow">
            <a:avLst>
              <a:gd name="adj1" fmla="val 50000"/>
              <a:gd name="adj2" fmla="val 10824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905120" y="533520"/>
            <a:ext cx="5715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c0128"/>
                </a:solidFill>
                <a:latin typeface="Times New Roman"/>
              </a:rPr>
              <a:t>Convert Applications to Applets</a:t>
            </a:r>
            <a:br>
              <a:rPr sz="2800"/>
            </a:br>
            <a:r>
              <a:rPr b="1" lang="hu-HU" sz="2000" spc="-1" strike="noStrike">
                <a:solidFill>
                  <a:srgbClr val="fc0128"/>
                </a:solidFill>
                <a:latin typeface="Times New Roman"/>
              </a:rPr>
              <a:t>Step by 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447920"/>
            <a:ext cx="807732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Make an HTML page with an APPLET 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liminate the main() metho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Usually main() contains code to make a new frame object and to set size of it. For applets the frame is generated automatically and the size can be set by HTML t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Derive the class from Applet, not from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Replace the constructor with a method called ini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et the layout manager if nec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he default layout manager of applets is FlowLayout and not BorderLayou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liminate the setTitle()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use the &lt;TITLE&gt; HTML tag instead of the setTitle()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For position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WIDTH, HEIGHT</a:t>
            </a:r>
            <a:r>
              <a:rPr b="1" i="1" lang="hu-HU" sz="2000" spc="-1" strike="noStrike">
                <a:solidFill>
                  <a:srgbClr val="fc0128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L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LEFT, RIGHT, BOTTOM, </a:t>
            </a:r>
            <a:r>
              <a:rPr b="0" i="1" lang="hu-HU" sz="2000" spc="-1" strike="noStrike">
                <a:solidFill>
                  <a:srgbClr val="000000"/>
                </a:solidFill>
                <a:latin typeface="Times New Roman"/>
              </a:rPr>
              <a:t>TOP, </a:t>
            </a:r>
            <a:br>
              <a:rPr sz="2000"/>
            </a:br>
            <a:r>
              <a:rPr b="0" i="1" lang="hu-HU" sz="2000" spc="-1" strike="noStrike">
                <a:solidFill>
                  <a:srgbClr val="000000"/>
                </a:solidFill>
                <a:latin typeface="Times New Roman"/>
              </a:rPr>
              <a:t>TEXTTOP, MIDDLE, </a:t>
            </a:r>
            <a:br>
              <a:rPr sz="2000"/>
            </a:br>
            <a:r>
              <a:rPr b="0" i="1" lang="hu-HU" sz="2000" spc="-1" strike="noStrike">
                <a:solidFill>
                  <a:srgbClr val="000000"/>
                </a:solidFill>
                <a:latin typeface="Times New Roman"/>
              </a:rPr>
              <a:t>ABSMIDDLE, BASELINE,</a:t>
            </a:r>
            <a:br>
              <a:rPr sz="2000"/>
            </a:br>
            <a:r>
              <a:rPr b="0" i="1" lang="hu-HU" sz="2000" spc="-1" strike="noStrike">
                <a:solidFill>
                  <a:srgbClr val="000000"/>
                </a:solidFill>
                <a:latin typeface="Times New Roman"/>
              </a:rPr>
              <a:t> ABSBOT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VSPACE, H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For cod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CODE</a:t>
            </a:r>
            <a:r>
              <a:rPr b="1" i="1" lang="hu-HU" sz="2000" spc="-1" strike="noStrike">
                <a:solidFill>
                  <a:srgbClr val="fc0128"/>
                </a:solidFill>
                <a:latin typeface="Times New Roman"/>
              </a:rPr>
              <a:t>*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CODE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fc0128"/>
                </a:solidFill>
                <a:latin typeface="Times New Roman"/>
              </a:rPr>
              <a:t>* required t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380880"/>
            <a:ext cx="5715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c0128"/>
                </a:solidFill>
                <a:latin typeface="Times New Roman"/>
              </a:rPr>
              <a:t>The Applet HTML Tags</a:t>
            </a:r>
            <a:br>
              <a:rPr sz="2800"/>
            </a:br>
            <a:r>
              <a:rPr b="1" lang="hu-HU" sz="2000" spc="-1" strike="noStrike">
                <a:solidFill>
                  <a:srgbClr val="fc0128"/>
                </a:solidFill>
                <a:latin typeface="Times New Roman"/>
              </a:rPr>
              <a:t>Step by 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638680" y="1219320"/>
          <a:ext cx="266868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219320"/>
                    <a:ext cx="26686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905120" y="533520"/>
            <a:ext cx="5715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c0128"/>
                </a:solidFill>
                <a:latin typeface="Times New Roman"/>
              </a:rPr>
              <a:t>Passing Information to Applets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3236760"/>
            <a:ext cx="7772400" cy="34171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import java.applet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public class FontTestApplet extends Apple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public void paint(Graphics g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String fontName = </a:t>
            </a:r>
            <a:r>
              <a:rPr b="1" lang="hu-HU" sz="1600" spc="-1" strike="noStrike">
                <a:solidFill>
                  <a:srgbClr val="fc0128"/>
                </a:solidFill>
                <a:latin typeface="Courier New"/>
              </a:rPr>
              <a:t>getParameter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(„</a:t>
            </a:r>
            <a:r>
              <a:rPr b="1" i="1" lang="hu-HU" sz="1600" spc="-1" strike="noStrike">
                <a:solidFill>
                  <a:srgbClr val="618ffd"/>
                </a:solidFill>
                <a:latin typeface="Courier New"/>
              </a:rPr>
              <a:t>font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Font f = new Font(fontName, Font.BOLD, 18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g.setFont(f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g.drawString(„Hello World”, 25, 5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1981080"/>
            <a:ext cx="7772400" cy="1078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&lt;APPLET CODE=„FontTestApplet.class” WIDTH=200, HEIGHT= 200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hu-HU" sz="1600" spc="-1" strike="noStrike">
                <a:solidFill>
                  <a:srgbClr val="fc0128"/>
                </a:solidFill>
                <a:latin typeface="Courier New"/>
              </a:rPr>
              <a:t>PARAM NAME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i="1" lang="hu-HU" sz="1600" spc="-1" strike="noStrike">
                <a:solidFill>
                  <a:srgbClr val="618ffd"/>
                </a:solidFill>
                <a:latin typeface="Courier New"/>
              </a:rPr>
              <a:t>font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hu-HU" sz="1600" spc="-1" strike="noStrike">
                <a:solidFill>
                  <a:srgbClr val="fc0128"/>
                </a:solidFill>
                <a:latin typeface="Courier New"/>
              </a:rPr>
              <a:t>VALUE</a:t>
            </a: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=„Helvetica”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ourier New"/>
              </a:rPr>
              <a:t>&lt;/APPLE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2743200"/>
            <a:ext cx="1962000" cy="1981080"/>
          </a:xfrm>
          <a:custGeom>
            <a:avLst/>
            <a:gdLst/>
            <a:ahLst/>
            <a:rect l="l" t="t" r="r" b="b"/>
            <a:pathLst>
              <a:path w="1236" h="1248">
                <a:moveTo>
                  <a:pt x="0" y="0"/>
                </a:moveTo>
                <a:cubicBezTo>
                  <a:pt x="177" y="91"/>
                  <a:pt x="884" y="339"/>
                  <a:pt x="1060" y="547"/>
                </a:cubicBezTo>
                <a:cubicBezTo>
                  <a:pt x="1236" y="755"/>
                  <a:pt x="1057" y="1102"/>
                  <a:pt x="1056" y="1248"/>
                </a:cubicBezTo>
              </a:path>
            </a:pathLst>
          </a:custGeom>
          <a:noFill/>
          <a:ln w="255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13240" y="1031760"/>
            <a:ext cx="72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pplets can read parameters embedded in the HTML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6T07:38:33Z</dcterms:created>
  <dc:creator>kacsuk</dc:creator>
  <dc:description/>
  <dc:language>en-US</dc:language>
  <cp:lastModifiedBy>roberto</cp:lastModifiedBy>
  <cp:lastPrinted>2001-10-02T16:13:05Z</cp:lastPrinted>
  <dcterms:modified xsi:type="dcterms:W3CDTF">2001-10-03T11:34:11Z</dcterms:modified>
  <cp:revision>90</cp:revision>
  <dc:subject/>
  <dc:title>The Vocabulary of OOP</dc:title>
</cp:coreProperties>
</file>