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7621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Módsze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al Methods Specification and Verification Guidebook for Software and Computer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CE"/>
                <a:ea typeface="Arial CE"/>
              </a:rPr>
              <a:t>Volume 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CE"/>
                <a:ea typeface="Arial CE"/>
              </a:rPr>
              <a:t>Planning and Technology Inse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Módszerek Integrálása egy Projekt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1371600"/>
            <a:ext cx="868680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készülõ termék típusa szer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módszerek nem minden termékre egyformán hatékonyak, pl. legjobban komplex problémák elemzésére jók, numerikus algoritmusokra kevésbé illeszthetõ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készülõ termék mérete és struktúrája szer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is méretre hatékonyabban alkalmazható a formális módszerek: termék dekompozíciója vagy/és a kritikus pontokra való alkalmaz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nalízis/Formális módszer fajtá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it szeretnénk: dokumentálni, bizonyítani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módszer használatának szigora, pl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atematikai leí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indent bizonyítunk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módszerek alkalmazási terü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elyik formális módszerek toolt használj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094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Módszerek Használatának Szig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920" y="137160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zigor: a használt formalitás fo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Logikából és diszkrét matematikából származó koncepció segítségével precízebb specifikáció készítése, bizonyítás, ha van, nem formál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CR metodológia, Case és objektum-orientált modellezõ technikák, Cleanroom metodológia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alizált specifikációs nyelv használata gépesített alátámasztással (pl.: szinktaszis ellenõrzés, típus ellenõrzé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odulok, absztrakt adattípusok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Larch, RAISE, VDM, Z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eljesen formalizált specifikációs nyelv használata szigorú szemantikával, formális bizonyító módszerekkel, gépesített alátámasztás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HOL, Nqthm, PVS, Eves, SDV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094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Módszerek Alkalmazási Terüle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492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fejlesztési életciklus egy vagy több szintj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inél hamarabb, annál több költség takarítható m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gy vagy több rendszer komponensné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Lehetõleg a kritikus komponensekné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teljes vagy speciális rendszer funkcionali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módszerek alatt általában a “helyesség bizonyítását” értik, de elképzelhetõ, hogy csak néhány fontos tulajdonságot bizonyítu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094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Módszerek Tool Kiválasztá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920" y="12193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feladathoz leginkább alkalmazkodó tool kiválasztá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zemponto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pecifikációs nye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z adott feladathoz megfelelõen illeszkedi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zintakszisa, szemantikája megfelelõ-e?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étel bizonyít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ennyire automatik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õvíthetõség?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Használhatósá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Vannak beépített könyvtára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ditora kényelmes?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Módszerek Típus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920" y="9907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él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Leíró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pecifikáció készí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atematikai ábrázolási módszerek: halmazelmélet, elsõrendû függvény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, VDM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nalitiku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pecifikáció, mint matematikai modell ellenõrzése, viselkedés jósl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valamilyen mélységig automatizá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állapotbejáró tool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qthm, HOL, Eves, PV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elépíté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elhasználói felü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n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ípusellenõrz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étel bizonyít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8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09480" y="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éldá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39680" y="1015920"/>
            <a:ext cx="9360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evezet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300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módszerek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echnikák és toolok matematikára és logikára alapozva, hogy egy komputer rendszer és szoftver követelményeit és tervezését specifikáljuk és verifikálju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Haszon és költség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használatának mérté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használatának hel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zükségessé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Hibavédelem már nemcsak hardverre, szoftvernél is szüksé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zoftver rendszerek hardvertõl éltérõ karakterisztikával hibásod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zoftver rendszerek egyre komplexebbek, fejlesztésük közben egyre nagyobb az igény a létezõ fejlesztési és verifikációs technikák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ermék életciklusában minél korábbi hibadetektál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evezet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80880" y="114300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módszerek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Hasz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módszerekkel a tesztelés során nem megtalált hibákat is megtalálhatju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specifikációval már a követelményekben és tervezésben megtalálhatjuk a hibákat, melyeket különben késõbb vennénk csak ész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formalizált kijelentéseket analizálhatjuk, és következményeit számolhatjuk, és ez ismételhet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módszerekkel több hibát találhatunk, mit használata nélkü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módszereket a termék életciklusának bármelyik fázisában alkalmazhatun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cepci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Logika és diszkrét matematika használat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pecifikáció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ervezés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strukció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iszámolhatjuk, h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rendszer leírása konziszt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rendszer tulajdonságai a követelményekkel összhangban van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tervezés során a követelmények korrekten vannak interpretá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modellezé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rendszer egy nem matematikai modelljébõl (szöveg, adatfolyam diagram, objektum diagram, …) egy formális specifikáció elõállítása valamely formális nyelv használatá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oolok segítségével logikailag ellenõrizhetjük a specifikáció komplettségét és konzisztenciájá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cepci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600" y="1143000"/>
            <a:ext cx="87613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módszerek a rendszer leírás analízisekor dedukciós technikákat használ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iegészíti az implementáció utáni induktív tesztelé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technikák és toolok a termék specifikációjára és verifikációjára a teljes fejlesztési életciklusb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övetelmények felállí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agasszintû tervez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lacsonyszintû tervez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mplementáci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techniká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specifikáció készít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ípus ellenõrz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lérhetõségi ellenõrz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pecifikáció “lejátszá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övetelések bizonyí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cepci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1455840"/>
            <a:ext cx="8534520" cy="52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módszerek a fejlesztésk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termék életciklusának egyes fázisai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termék életciklusának különbözõ fázisaiban a rendszer leírás végigkövetése, az egyes fázisokban levõ leírások egymásnak megfelel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izonyítása, hogy egy tulajdonság az életciklus egyik fázisában korrekten van implementálva egy finomított fázisb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efinícíó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137160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specifikáci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rendszer viselkedésének és tulajdonságainak leírása egy matematikai alapú nyelv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bizonyítá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gy komplett és meggyõzõ érvelés a rendszer leírás egy állításának érvényességérõl. Végezhetõ kézileg, vagy egy automatizált tool segítségé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bsztrakci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z egyszerûsítés folyamata, miközben elhagyjuk a lényegtelen részleteket és általánosítjuk, leszûrjük a maradék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pecifikáció “lejátszók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Végrehajtható programok, melyek interpretálják a formális specifikációt egy magasszintû, dinamikus végrehajtható formá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Hol Használjunk Formális Módszerek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16765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módszerek kiegészítik a fejlesztés korai fázis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gy létezõ projekt késõbbi fázisaiba technikailag nehezebb a formális módszereket integrál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módszerek használatakor új tevékenység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odellezés: a rendszer entitásainak kapcsolatát írjuk 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alizáció: formális specifikáció elkészít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specifikáci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pecifikáció lejátszás: a rendszer viselkedésének megértésé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ijelentések bizonyítása: formális specifikáció korrektsé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z új tevékenységeket iteratívan végezzü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iztonsági Analíz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1539720"/>
            <a:ext cx="8534520" cy="51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andard analízis: funkcionális korrektség, a rendszer hogy viselked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iztonsági analízis: a rendszer hog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em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viselked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em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jut veszélyes állapot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módszerek kiegészítik a biztonsági analízisre már létezõ eszközö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módszerekkel beláthatjuk, hogy a formális specifikáció funkcionálisan korrekt és a biztonsági elvárások teljesüln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ávorszky Judit</dc:creator>
  <dc:description/>
  <dc:language>en-US</dc:language>
  <cp:lastModifiedBy>Jávorszky Judit</cp:lastModifiedBy>
  <cp:revision>0</cp:revision>
  <dc:subject/>
  <dc:title>Formális Módszerek</dc:title>
</cp:coreProperties>
</file>