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7920" y="6186600"/>
            <a:ext cx="360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partment  of Measurement and Information Syste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5120" y="6095880"/>
            <a:ext cx="82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19920" y="6337440"/>
            <a:ext cx="176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662-A04D-45E0-B0BE-5EDB58C00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Fault Tolerant CORBA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(FT-CORBA) -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Modeling and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tván Majzik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Measurement and Information System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n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Infra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838080"/>
            <a:ext cx="6934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7946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lic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: create_object() method of the R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: invokes local factory objects on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 manages membership, consistenc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’s responsibility to manage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plicationStyle: stateless, cold / warm passive, ac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mbership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istency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itialNumberReplicas, MinimumNumberReplic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Detection and No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model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crash (incorrect results are not tolerate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by poll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 objects inherit the PullMonitorable interface: is_alive() metho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 invokes it periodicall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ierarchy of fault detecto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and fault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aultMonitoring (Style, Granularity, IntervalAndTimeout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g and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objects inherit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heckpointable interface: get_state(), set_st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pdateable interface: get_update(), set_upd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ogging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oring GIOP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eriodically storing state of the objec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store object state and retrieve stored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heckpointInterv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OGR: interoperable object group referenc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ultiple IIOP profiles 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ressing object group members or gateway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mechanisms of the client ORB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try all alternative IIOP profi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ransparent reinvocation of reque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“at most once” execution semantics at the server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eartbeating of the ser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4840" y="3043080"/>
            <a:ext cx="6851520" cy="393840"/>
            <a:chOff x="1374840" y="3043080"/>
            <a:chExt cx="6851520" cy="393840"/>
          </a:xfrm>
        </p:grpSpPr>
        <p:sp>
          <p:nvSpPr>
            <p:cNvPr id="76" name=""/>
            <p:cNvSpPr/>
            <p:nvPr/>
          </p:nvSpPr>
          <p:spPr>
            <a:xfrm>
              <a:off x="1374840" y="3051000"/>
              <a:ext cx="6851520" cy="374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08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7012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54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Object-Oriented Systems Described in UM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proach by A. Bondavalli, I. Majzik, I. Mur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DE - High-level Integrated Design Environment for Depend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SPRIT Open LTR No. 27493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rom UML-based models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class, object, deployment diagram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 Timed Petri 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PN evaluation tools can be us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ppor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arison of design choi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bottleneck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ystem-wide, structural mod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ing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UML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Diagrams with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ereotypes to identify roles (variant, tester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agged values to assign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Intermediate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Simplified structur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lement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ftware, hardware, with/wo stat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pendencie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„uses the service of” „is composed of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lass based redundancy </a:t>
            </a: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Dependability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Timed Petri ne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-nets for elements and dependenci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ilure/Propagation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276720"/>
            <a:ext cx="471672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523880"/>
            <a:ext cx="471672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62520" y="1797120"/>
          <a:ext cx="440028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97120"/>
                    <a:ext cx="4400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62520" y="3544920"/>
          <a:ext cx="441792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44920"/>
                    <a:ext cx="44179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1523880"/>
            <a:ext cx="3047760" cy="160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76720"/>
            <a:ext cx="304776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97520" y="1824120"/>
            <a:ext cx="15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S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47440" y="4648320"/>
            <a:ext cx="54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2720" y="985680"/>
            <a:ext cx="323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33200" y="101448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50800" y="2212920"/>
            <a:ext cx="1136880" cy="755640"/>
            <a:chOff x="1450800" y="2212920"/>
            <a:chExt cx="1136880" cy="755640"/>
          </a:xfrm>
        </p:grpSpPr>
        <p:sp>
          <p:nvSpPr>
            <p:cNvPr id="104" name=""/>
            <p:cNvSpPr/>
            <p:nvPr/>
          </p:nvSpPr>
          <p:spPr>
            <a:xfrm>
              <a:off x="1450800" y="22129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55840" y="28195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2720" y="4270320"/>
            <a:ext cx="1136880" cy="755640"/>
            <a:chOff x="612720" y="4270320"/>
            <a:chExt cx="1136880" cy="755640"/>
          </a:xfrm>
        </p:grpSpPr>
        <p:sp>
          <p:nvSpPr>
            <p:cNvPr id="107" name=""/>
            <p:cNvSpPr/>
            <p:nvPr/>
          </p:nvSpPr>
          <p:spPr>
            <a:xfrm>
              <a:off x="612720" y="42703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400" y="4876920"/>
              <a:ext cx="11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9240" y="4270320"/>
            <a:ext cx="1136520" cy="755640"/>
            <a:chOff x="2289240" y="4270320"/>
            <a:chExt cx="1136520" cy="755640"/>
          </a:xfrm>
        </p:grpSpPr>
        <p:sp>
          <p:nvSpPr>
            <p:cNvPr id="110" name=""/>
            <p:cNvSpPr/>
            <p:nvPr/>
          </p:nvSpPr>
          <p:spPr>
            <a:xfrm>
              <a:off x="2289240" y="427032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93920" y="48769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air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0600" y="1859040"/>
            <a:ext cx="5867280" cy="370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971800" y="2133720"/>
          <a:ext cx="53197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33720"/>
                    <a:ext cx="53197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96880" y="1859040"/>
            <a:ext cx="1752480" cy="175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3840" y="1930320"/>
            <a:ext cx="161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H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80" y="129060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9360" y="1319040"/>
            <a:ext cx="257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05040" y="2471760"/>
            <a:ext cx="1136520" cy="755640"/>
            <a:chOff x="905040" y="2471760"/>
            <a:chExt cx="1136520" cy="755640"/>
          </a:xfrm>
        </p:grpSpPr>
        <p:sp>
          <p:nvSpPr>
            <p:cNvPr id="121" name=""/>
            <p:cNvSpPr/>
            <p:nvPr/>
          </p:nvSpPr>
          <p:spPr>
            <a:xfrm>
              <a:off x="905040" y="247176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9720" y="307800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T-CORBA specification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ML-based automatic dependability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p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to construct optimal FT-CORBA schem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valuate existing archite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812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: The FT-CORBA proposa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: UML-based dependabil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I: Dep. modeling of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dundancy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981080"/>
            <a:ext cx="22860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981080"/>
            <a:ext cx="380988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90920" y="2057400"/>
          <a:ext cx="3746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57400"/>
                    <a:ext cx="3746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553080" y="2133720"/>
          <a:ext cx="220824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133720"/>
                    <a:ext cx="22082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7200" y="1981080"/>
            <a:ext cx="1981080" cy="320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3600" y="2441520"/>
            <a:ext cx="756000" cy="527040"/>
            <a:chOff x="993600" y="2441520"/>
            <a:chExt cx="756000" cy="527040"/>
          </a:xfrm>
        </p:grpSpPr>
        <p:sp>
          <p:nvSpPr>
            <p:cNvPr id="132" name=""/>
            <p:cNvSpPr/>
            <p:nvPr/>
          </p:nvSpPr>
          <p:spPr>
            <a:xfrm>
              <a:off x="993600" y="2441520"/>
              <a:ext cx="756000" cy="52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8640" y="286560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2720" y="3508200"/>
            <a:ext cx="755640" cy="527400"/>
            <a:chOff x="612720" y="3508200"/>
            <a:chExt cx="755640" cy="527400"/>
          </a:xfrm>
        </p:grpSpPr>
        <p:sp>
          <p:nvSpPr>
            <p:cNvPr id="135" name=""/>
            <p:cNvSpPr/>
            <p:nvPr/>
          </p:nvSpPr>
          <p:spPr>
            <a:xfrm>
              <a:off x="6127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4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7120" y="3508200"/>
            <a:ext cx="755640" cy="527400"/>
            <a:chOff x="1527120" y="3508200"/>
            <a:chExt cx="755640" cy="527400"/>
          </a:xfrm>
        </p:grpSpPr>
        <p:sp>
          <p:nvSpPr>
            <p:cNvPr id="138" name=""/>
            <p:cNvSpPr/>
            <p:nvPr/>
          </p:nvSpPr>
          <p:spPr>
            <a:xfrm>
              <a:off x="15271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18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985680" y="2979720"/>
            <a:ext cx="31608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1800" y="2979720"/>
            <a:ext cx="36684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0" y="144288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2480" y="1519200"/>
            <a:ext cx="155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ault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28800" y="1519200"/>
            <a:ext cx="141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-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FT-CORBA Architectur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UML model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elements/stru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itional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utomatic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ailoring to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nets to specific mechanism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ed on the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strictions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n-replicated client, static struct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controlled replication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ML Mode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elements/structur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olerance Domain: 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ependent of deploy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: sub-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oles: stereotyp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-CORBA properties as tagged valu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embership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Monitoring (Style, Granularity, Interval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Initial, Minimum)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2240" y="1603440"/>
            <a:ext cx="5099040" cy="426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6040" y="3132000"/>
            <a:ext cx="204300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2240" y="1298520"/>
            <a:ext cx="357516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680" y="1268280"/>
            <a:ext cx="227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 Domain 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6240" y="4270320"/>
            <a:ext cx="167004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6240" y="388944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720" y="388764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0800" y="465120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5840" y="525780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2136600"/>
            <a:ext cx="3879720" cy="11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9440" y="1755720"/>
            <a:ext cx="75564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640" y="175428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804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47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840" y="236376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514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924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592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8400" y="38894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8400" y="35082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840" y="35067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51200" y="3659040"/>
            <a:ext cx="2965680" cy="1671840"/>
            <a:chOff x="4651200" y="3659040"/>
            <a:chExt cx="2965680" cy="1671840"/>
          </a:xfrm>
        </p:grpSpPr>
        <p:sp>
          <p:nvSpPr>
            <p:cNvPr id="175" name=""/>
            <p:cNvSpPr/>
            <p:nvPr/>
          </p:nvSpPr>
          <p:spPr>
            <a:xfrm>
              <a:off x="4651200" y="404172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1200" y="366084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640" y="365904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94000" y="3811680"/>
            <a:ext cx="2965680" cy="1671480"/>
            <a:chOff x="4194000" y="3811680"/>
            <a:chExt cx="2965680" cy="1671480"/>
          </a:xfrm>
        </p:grpSpPr>
        <p:sp>
          <p:nvSpPr>
            <p:cNvPr id="179" name=""/>
            <p:cNvSpPr/>
            <p:nvPr/>
          </p:nvSpPr>
          <p:spPr>
            <a:xfrm>
              <a:off x="4194000" y="419400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4000" y="381312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440" y="381168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36800" y="43466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0" y="39654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0240" y="39639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540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3840" y="4575240"/>
            <a:ext cx="6793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992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204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080" y="4649760"/>
            <a:ext cx="66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1908000"/>
            <a:ext cx="243216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152712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0200" y="152568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86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44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852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6600" y="5105520"/>
            <a:ext cx="6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272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94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564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1440" y="1220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3520" y="39639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5120" y="3506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27440" y="4871520"/>
            <a:ext cx="900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776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848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85040" y="3271320"/>
            <a:ext cx="595080" cy="107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13640" y="3271320"/>
            <a:ext cx="519120" cy="9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942240" y="3271680"/>
            <a:ext cx="442800" cy="77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46800" y="3271320"/>
            <a:ext cx="290520" cy="62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ailable building block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b-models in FT-CORB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1. Client failo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2. Server objec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Fault management (detection and notifi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Recovery (replication managemen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mant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imary is tried fir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over conditions: „crash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over: 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ure exception until all profiles have been tri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ree (passive replication)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op event: Clien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ic events: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erroneous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osite events (OR): number n of profile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(primary)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S3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... AND Sn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48520" y="1219320"/>
            <a:ext cx="2438280" cy="1523880"/>
            <a:chOff x="6248520" y="1219320"/>
            <a:chExt cx="2438280" cy="1523880"/>
          </a:xfrm>
        </p:grpSpPr>
        <p:sp>
          <p:nvSpPr>
            <p:cNvPr id="221" name=""/>
            <p:cNvSpPr/>
            <p:nvPr/>
          </p:nvSpPr>
          <p:spPr>
            <a:xfrm>
              <a:off x="6248520" y="1219320"/>
              <a:ext cx="2438280" cy="1523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6324480" y="1295280"/>
            <a:ext cx="229896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1295280"/>
                      <a:ext cx="229896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Server Object Fail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istinction of failur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ilover in cl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rror detected in the object grou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rroneous response (commission faul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agated to clients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cation-specific error dete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ilure proces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stinguished cases: crash/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ropagation sub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subnets  (toward the client fault tree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666880"/>
            <a:ext cx="480060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2743200"/>
          <a:ext cx="466272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6272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T-CORBA Propos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Faul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+notification: Chain of even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urce: 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ncy = MonitoringInterv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age depends on MonitoringGranularit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member / single per host / single per host and typ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: Fault Notifier(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stination: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erarchy of Fault Detecto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objects: Replication is possib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rror detection dela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imed PN transition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subsyste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ed infrastructure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cal fault trees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43600" y="4038480"/>
            <a:ext cx="2438280" cy="1524240"/>
            <a:chOff x="5943600" y="4038480"/>
            <a:chExt cx="2438280" cy="1524240"/>
          </a:xfrm>
        </p:grpSpPr>
        <p:sp>
          <p:nvSpPr>
            <p:cNvPr id="236" name=""/>
            <p:cNvSpPr/>
            <p:nvPr/>
          </p:nvSpPr>
          <p:spPr>
            <a:xfrm>
              <a:off x="5943600" y="4038480"/>
              <a:ext cx="2438280" cy="1524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6019920" y="4114800"/>
            <a:ext cx="229860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114800"/>
                      <a:ext cx="229860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Recovery in the Object Gro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riggered by the Fault Notifier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 the Replication Manage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Maintain the number of replic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ed object is remov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new replica, restoring stat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nly a single replica on a given host!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is possible if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-f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y, but there are available ho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.e. number of hosts &gt;=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subnet: Explicit repai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atency: CheckpointInterval, 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of the replic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tic deployment: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ool of identical hosts: Logic condition for repair</a:t>
            </a:r>
            <a:br>
              <a:rPr sz="2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ree hosts (PN place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increased by host repair and server object cras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decreased by host crash and server object repa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uard on the transition for explicit repai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4120" y="4956120"/>
            <a:ext cx="1974960" cy="6796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374840"/>
            <a:ext cx="1670040" cy="3747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800" y="3203640"/>
            <a:ext cx="2813400" cy="67932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 of Subn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84520" y="1068840"/>
            <a:ext cx="5099040" cy="755640"/>
          </a:xfrm>
          <a:custGeom>
            <a:avLst/>
            <a:gdLst>
              <a:gd name="textAreaLeft" fmla="*/ 1121040 w 5099040"/>
              <a:gd name="textAreaRight" fmla="*/ 3978000 w 509904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2" y="21600"/>
                </a:lnTo>
                <a:lnTo>
                  <a:pt x="5398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8200" y="2136600"/>
            <a:ext cx="1060560" cy="113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68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8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2040" y="4194000"/>
            <a:ext cx="144144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2520" y="434340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2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51200" y="2136600"/>
            <a:ext cx="10605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371600"/>
            <a:ext cx="19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Fault 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1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5120" y="36576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e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5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5800" y="365760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cr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41680" y="48798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5800" y="502920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4680" y="4879800"/>
            <a:ext cx="1060560" cy="527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50292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1840" y="14479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Rep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0240" y="3276720"/>
            <a:ext cx="24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Granular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600" y="358128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240" y="5029200"/>
            <a:ext cx="151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icationSty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7760" y="533412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point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65320" y="1442520"/>
            <a:ext cx="2043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0920" y="3894120"/>
            <a:ext cx="67140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70240" y="5253120"/>
            <a:ext cx="1128600" cy="8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18367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8148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81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890800" y="3817800"/>
            <a:ext cx="62064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03400" y="4732200"/>
            <a:ext cx="59544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1320" y="4046400"/>
            <a:ext cx="19670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12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88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94320" y="4046400"/>
            <a:ext cx="1738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86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25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629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16292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0100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30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7096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172200" y="909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5240" y="3813120"/>
            <a:ext cx="69840" cy="22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-wide Dependabil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nalysis of the Petri-net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tools (SPNP, PANDA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nsitiv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ystem-wide reliability, availabilit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ptimal selection of FT-CORBA paramete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(membership, consistency) sty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umber of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onitoring granularity, interval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MG CORBA: standard of open OO system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vides transparent access to services of remote objects (like local method call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RB: Object Request Broker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munication of requests/response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location, activation, parameter passing etc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R: interoperable object refer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OP: general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OP: Internet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L: Interface definition language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 between client and server interfa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in CORBA environmen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story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pril 1998: Request for Proposal issue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October 1998: Initial submiss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ember 1999: Joint revised submission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y Ericsson, Inprise, Iona, Lucent, Oracle, Sun,.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pril 200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 Final adopted specific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oiding SPOF of single (server)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by entity redundancy,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and recove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(server)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to maintain object replica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properti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number/lo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faulty server object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 domain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 of server object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fferent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object per ho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ion Manager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and management of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pplication-controlled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0"/>
            <a:ext cx="83059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139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200" y="1442880"/>
            <a:ext cx="815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mains, object groups, hosts and repl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t of CORBA objects to support F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Notifi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Analyz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RB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gging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covery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mmercial implementations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20:19:56Z</dcterms:created>
  <dc:creator>Majzik Istvan</dc:creator>
  <dc:description/>
  <dc:language>en-US</dc:language>
  <cp:lastModifiedBy>Majzik Istvan</cp:lastModifiedBy>
  <dcterms:modified xsi:type="dcterms:W3CDTF">2000-09-14T11:32:16Z</dcterms:modified>
  <cp:revision>7</cp:revision>
  <dc:subject/>
  <dc:title>Dependability Modeling of FT-CORBA Architectures</dc:title>
</cp:coreProperties>
</file>