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902825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AFB-197A-4570-8829-D92A5065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919-4184-4E11-8322-54E3BA2D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F7A-4C7A-41F5-869C-C76FE98F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5E6-7ED0-4DB3-BA2E-FBEF530C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3973-CBCA-4C94-82E2-19E39748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DAA2-F076-427F-8F77-E5C3D563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0954-4970-4860-9ABA-B0A1FCA8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1A1A-0515-4C82-8D7A-DF3D5985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3972-8A3A-47BB-B673-74805FC9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6B1B-50C4-4679-81BE-68C8EDF7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543E-ABCD-4E17-B7B6-4A12643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E85-50AD-4CCA-A929-1AFEE7F5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A4F9-B70A-4CB3-AA83-25C0070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A31-A8B4-4407-B2BB-41FDC624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C043-A1AE-4D0F-B168-E03E2123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CA78-18A1-4D87-9377-D98ED762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C1D4-8D23-47D5-8EB2-6F7F01A3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361-AF1B-4B08-A0A4-C85EE76A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237-B16D-4B9A-9ED7-3A615D45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12B-8B36-4A32-90C5-3E4EAE21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BEE-40FB-4156-9D36-BE33084D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BF7-2FCA-40C1-BA3E-3A4A4672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A2D-21C7-460D-9E3A-FE8C024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17D-EAC9-4CAA-B73E-300D1AF4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825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57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248160"/>
            <a:ext cx="347976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248520"/>
            <a:ext cx="243540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38080"/>
            <a:ext cx="906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d14539_" descr=""/>
          <p:cNvPicPr/>
          <p:nvPr/>
        </p:nvPicPr>
        <p:blipFill>
          <a:blip r:embed="rId4"/>
          <a:stretch/>
        </p:blipFill>
        <p:spPr>
          <a:xfrm>
            <a:off x="380880" y="801720"/>
            <a:ext cx="9068040" cy="150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296280" y="15228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9A2F-C574-4E2D-AC32-D1F28274EEC5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42680" y="6248160"/>
            <a:ext cx="260964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1892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724800" y="6248520"/>
            <a:ext cx="24350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ctr">
              <a:spcBef>
                <a:spcPts val="72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algn="ctr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3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br>
              <a:rPr sz="10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Developing of Network Computing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Based System Develop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jos Fic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Information Technology, University of Misko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C75A-95F5-495A-BE0A-48EE23B1FB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direct (object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by objects that are made available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direction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ethod disp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bject's class determines the implementation of the object'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 runtime, a method invocation is resolved by retrieving the target object's class and directing the call to the nethod implementation in tha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690-5DF4-4D93-9B38-928A1C1B4B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direct interface: an exampl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1040" y="990360"/>
            <a:ext cx="46864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registers itself - the mediator knows only the abstract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acquires a reference to the current checker from the mediator (the word processor knows only the abstract checker interface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198144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91120"/>
            <a:ext cx="41148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1219320"/>
            <a:ext cx="20574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7524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560" y="129528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process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828800"/>
            <a:ext cx="131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d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752480"/>
            <a:ext cx="16765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0040" y="12952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check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82880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mmar che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8800" y="51814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 mediator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9568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9568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828800" y="2362320"/>
            <a:ext cx="137160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33560" y="2362320"/>
            <a:ext cx="68580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62320"/>
            <a:ext cx="167616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362320"/>
            <a:ext cx="38088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7432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048120"/>
            <a:ext cx="30456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0" y="31240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8640" y="26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" y="28195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720" y="48769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1080" y="35053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620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828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936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2743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BAE-E893-4E72-B2B8-4DEC4CF4D6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as 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terface specification: contract betwe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 constructor of 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tract states what the client needs to do to use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 theory, the contract could be refined at run tim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64A-081E-452B-BDB4-2862CE55FF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 of a Contra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r every oper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onditions: the client has to establish i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 oper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tconditions: the component has to establish before returning to the cl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rtially correctness: the operation terminates with the correct postconditions or does not terminates at 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tal correctness: the operation should eventually termin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Non-functional requirements (performance, availability, data safety capacity etc.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359-0CBF-4C51-BB14-AE4F5A7288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specified interface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00"/>
              </a:spcBef>
              <a:buSzPct val="121168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 deployment environment will need to provide, such that the component ca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interfaces of the othe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st include also the specification of the component world (component model and its version). (For example CORBA x.x, Java x.x, COM/DCOM x.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601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01F-FB07-43AA-AB14-8C62D6FCC6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ch component model use a specific distributed object model as a middle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three major component models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3124080"/>
          <a:ext cx="8534520" cy="2700360"/>
        </p:xfrm>
        <a:graphic>
          <a:graphicData uri="http://schemas.openxmlformats.org/drawingml/2006/table">
            <a:tbl>
              <a:tblPr/>
              <a:tblGrid>
                <a:gridCol w="3048120"/>
                <a:gridCol w="1752480"/>
                <a:gridCol w="1981440"/>
                <a:gridCol w="17524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Bean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 Java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R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 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F7E-B11F-4A53-9840-A7CE68FD6E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avaBean 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main aspects of the Bean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 patter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ow does it work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6CB-0E31-4A53-A6EB-534DC1D9E47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specification a Java component architecture for Java component developers and component assembl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a black-box component. It may be visible or invis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consists in a ZIP-format archive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set of serialized objec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ptional HTML help file, localization information, icon and other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 optional manifest fil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D06-D995-4F81-92E6-9E45E5463C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are (mainly) presentation tier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tipically represent GUI elem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hare the address space with their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ir clients are containers that provide all the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end events to their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253-BB5C-4340-885B-6DC7DF212B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grammer's View of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895480"/>
            <a:ext cx="1981080" cy="1905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0532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733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42670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219320"/>
            <a:ext cx="175284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2880" y="144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62160" y="1676520"/>
            <a:ext cx="1904760" cy="1447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75680" y="1219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94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0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9520" y="3124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430-F4C7-4D24-88F0-2BB5DC3D09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cept of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oftware compon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Enterprise JavaBeans component model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555-3D3E-45CF-99D3-834CF38C38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ithin the JDK the developer c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scr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ustomize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applications from customized Beans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0A9-835B-4202-9792-AF24D57A80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JDK Framework View of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219320"/>
            <a:ext cx="8991720" cy="259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809880"/>
            <a:ext cx="2666880" cy="228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572000"/>
            <a:ext cx="2133360" cy="990720"/>
          </a:xfrm>
          <a:prstGeom prst="leftRightArrow">
            <a:avLst>
              <a:gd name="adj1" fmla="val 50000"/>
              <a:gd name="adj2" fmla="val 428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1600200"/>
            <a:ext cx="10666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600200"/>
            <a:ext cx="16002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9625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1148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2670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4197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5720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7242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83400" y="49528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wn B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B57-9A6E-4AD1-B9B7-6507E6D4B8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Visual Present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the visual layout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Let components visually interact with each oth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se are provided b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Foundation Classes (JF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W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-D graphi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wing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92E-4260-4092-89D5-A96FBAFFC3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event model: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event-delegation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the same one JDK 1.1 introduced for AWT but every Beans can use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s are obje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ost an event (event source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ther components can subscribe to the event sour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the subscribed component (listeners) will be notified if the event "fires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0C8-B9A1-4B12-9D99-7D350AB2BF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have properties: named attribu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read and modify these properties using a property editor within a visual too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t run time getter and setter methods are avail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y changes can trigger ev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ies can be constrait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0CA-8C0B-442E-873F-CECC02773D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mponent can make its services to the outside worl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visual tool use this facility to discover the Bean's incoming and outgoing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ers can define for their Beans an explicit BeanInfo clas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88A-73A1-4E6F-A672-0348655A49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use the JDK serializatio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isual tools require component that support some form of persiste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a simple form of version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load state written by their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store state in a format that is consistent with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an be packaged and distributed using JAR fil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F81-D2B8-4326-8C01-C63D1FEBB2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the toolability of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editor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es provide the first level of support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 designer can visually edit a particular part of property, for example font, col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sheet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are visual interfaces that group all the propriety edito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ustomizers provide dialogs that let the designer edit a bean as a who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73D-2833-484F-8331-7B7B528F60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RBA ORB let the programmer invoke methods across languages, operating systems and network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MI can also use for Java-to-Java bean commun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7B4-FE30-4152-A036-0BB43801D0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6000"/>
          </a:bodyPr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has to works inside a builder as well as in a running applic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 be toolable a beans must support a lot of extra func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2971800"/>
            <a:ext cx="2895840" cy="312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Edi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Descripto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spec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71800"/>
            <a:ext cx="213372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12408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" y="378468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4880" y="41911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B6F-68FD-4F77-AE40-1E0075238E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lti-tier architecture separates at least the presentation - application - data management layers, but these tiers usually remain complex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tional separation of the tiers is pos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mand of the market for the sorter development proce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mponents help in re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siest way to develop scalable system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B79-A552-4142-B835-058B194B25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ng Patter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architecture specifies standard name and type conventions for methods that a Bean uses to expose its properties, events and metho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introspector uses this convention to discover the Bean's faciliti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alter this convention by providing an own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456-153D-4907-BE5B-FB69B876A4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riting a Bean class the naming conventions are compuls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a Bean is a visual component it must derive from one of the AWT class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ntainer  must be created and the bean must be added to i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the Bean is a listener it must register to the event sourc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112-0FD3-4001-AADA-D222947332C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 source beans generates event objects and pass them as arguments to the event handling methods of listen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registered  listener get the event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ry delivery normally is multicas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it possible to create an event adapter to demultiplexing of event sources onto a single liste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196-7230-4B81-902F-EA34B5C04B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nterprise JavaBeans Component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nterprise JavaBeans 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Session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Entity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C0C-F833-49FD-89A4-C3B1F76898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component model helps to developing the client side ti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business logic tier needs a server-oriented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ing the business logic tier the support of transactions is essent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large business application has several different client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575-0B28-4FBD-A376-13CCB97B8A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vide the standard architecture for developing distributed, component-based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ol interoperati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ide all the "technical" details such as handling transactions, security, distribution etc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ddress development, deployment, and runtime aspects of enterprise application life cycl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6B8-7AB5-45D1-A0C9-93E29B3710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nterprise Beans  Typ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ree different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2057400"/>
          <a:ext cx="9296280" cy="3657600"/>
        </p:xfrm>
        <a:graphic>
          <a:graphicData uri="http://schemas.openxmlformats.org/drawingml/2006/table">
            <a:tbl>
              <a:tblPr/>
              <a:tblGrid>
                <a:gridCol w="3684600"/>
                <a:gridCol w="561168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B Typ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pos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s a task for a cli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t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s a business entity object that exists in persist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-Drive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s as a listener for the Java Message Service API, processing messages asynchronously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6F3-850B-4F09-9526-885AB60A16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tipically provide server-side functiona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run in their own address sp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are integrated into a container that hides all system detai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anage components and notify components about events such as activation, passivation, transa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 component access to services such as transactions, security, persist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elp to register and deploy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74A-3E09-4DDA-AD77-1D676E2E57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1371600"/>
            <a:ext cx="5410080" cy="2362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3733920"/>
            <a:ext cx="22096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447920"/>
            <a:ext cx="1447920" cy="441936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TS/J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30481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44197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1676520"/>
            <a:ext cx="83844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2670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19720"/>
            <a:ext cx="1447560" cy="1447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57200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7242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4360" y="5181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600200"/>
            <a:ext cx="609840" cy="685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281952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11480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3240" y="2286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4640" y="5029200"/>
            <a:ext cx="12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733920"/>
            <a:ext cx="12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if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2440" y="190512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2240" y="487692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98108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952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743200"/>
            <a:ext cx="144756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2743200"/>
            <a:ext cx="1600200" cy="190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495320" y="2742840"/>
            <a:ext cx="12193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66688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2743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82B-705F-4A4D-AE12-10DCAC53697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Session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 is trans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xecutes on behalf of a single client - the instance is an extension of the client that creates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transaction-a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pdates data in an underlying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s lifetime is tipically that of its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destroyed when the EJS server crashes. The client has to re-establish a new session objec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549-470B-478B-88AB-E4F865C880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haracteristic properties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independent deploy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s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ell separated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from its environment and from other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will never be deployed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artiall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 encapsulates its constituent featu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user of a component cannot be expected to have access to the construction detai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919-9CFB-45C8-9D50-AB996B3C39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the Session Bean (cont'd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oes not represent data that should be stores in a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ipically reads and update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re intended to be private resources used only the client that creates the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onymous - it hides its identit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DAC-0470-40DB-9A4B-002ECD0049D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Entity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shared access from multiple us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icipates in transa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present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long-liv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rvives crashes of the EJB server. The crash is transparent to the cli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as a persistent object reference. The object reference is encapsulated the Object Id for this Bea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EDC-1139-4758-9806-5D0CEB3723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2590920"/>
            <a:ext cx="2057400" cy="1371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2057400"/>
            <a:ext cx="2667240" cy="3048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2362320"/>
            <a:ext cx="1828800" cy="1904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8640" y="3048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2760" y="4572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335268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's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040" y="3733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4520" y="30481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2514600"/>
            <a:ext cx="1523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29718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32767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5181480"/>
            <a:ext cx="175248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0916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EB6-EAF4-41F1-8DEA-83562AA518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2966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 between client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Bean has a unique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interface: Remote interface provided by bean. Client locates home using JNDI. Primary key server as identification within a home. Bean and container cooperate to implement create, find, home and re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: provided by Bean. Implementation of business logic in Bean class. Container delegates incoming call to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: serializable classes for storing references persist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MetaData: Run-time access to component function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4FE-522E-488E-81AA-D32787D0495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contract between Bean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stance view of life cy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tityContext/SessionContext/MessageDriveContext Are passed to Bean instance at creation ti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vironment tha a container makes available to a Bean insta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st of services provided by the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807-B10B-4543-B84F-B464D2F8A44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XML based Deployment Description for configuration and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 files for Enterprise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 class (Entity Bean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 objec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1D2-EFB5-42D3-8921-A4CE9B4F826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8000"/>
          </a:bodyPr>
          <a:p>
            <a:pPr marL="3405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ActiveX Cont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796-C539-4B37-9E4F-59CD8521FA8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DCOM: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Distributed Component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istributed object model of Microso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inary interoperability standard and its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PI level servi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No high-level language bindings, but Microsoft Visual J++ provides Java bind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ased on DCE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5C7-1965-4BE9-AEF4-468459F9E90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 a component supports one or more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identified by a 128-bit CLSID (Class ID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not an object in the classical OO sen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re is no object 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DCOM objects does not maintain state between conne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ient cannot reconnect to exactly the same 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8B0-5945-4947-B72B-6D2834D0FA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Collection of related fun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eparates the interface from the implementation (uses DCE-based IDL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efines as a low-level binary API based on a table of pointers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vtabl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n interface has a symbolic name, but at run time is identified by a 128-bit unique IID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Interface Identifier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E2B-403E-415F-A225-3ED4D2EC6D2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third-party composi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be sufficiently self-contain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come with clear specif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nteracts with its environment through a well-defined interfa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614-410A-428A-B81F-6A16504783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2438280"/>
            <a:ext cx="1467000" cy="1390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6440" y="2705040"/>
            <a:ext cx="4362480" cy="304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781360" y="2685960"/>
            <a:ext cx="1276200" cy="3048120"/>
            <a:chOff x="2781360" y="2685960"/>
            <a:chExt cx="1276200" cy="3048120"/>
          </a:xfrm>
        </p:grpSpPr>
        <p:sp>
          <p:nvSpPr>
            <p:cNvPr id="292" name=""/>
            <p:cNvSpPr/>
            <p:nvPr/>
          </p:nvSpPr>
          <p:spPr>
            <a:xfrm>
              <a:off x="2781360" y="268596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81360" y="31053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160" y="352440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19160" y="394344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1360" y="4381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0440" y="481968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160" y="52768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67360" y="2705040"/>
            <a:ext cx="1276200" cy="3048120"/>
            <a:chOff x="5067360" y="2705040"/>
            <a:chExt cx="1276200" cy="3048120"/>
          </a:xfrm>
        </p:grpSpPr>
        <p:sp>
          <p:nvSpPr>
            <p:cNvPr id="300" name=""/>
            <p:cNvSpPr/>
            <p:nvPr/>
          </p:nvSpPr>
          <p:spPr>
            <a:xfrm>
              <a:off x="5067360" y="270504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67360" y="31244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160" y="35434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05160" y="396252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7360" y="44006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86440" y="48387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05160" y="529596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74920" y="251784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2895480"/>
            <a:ext cx="89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29160" y="1285920"/>
            <a:ext cx="156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82320" y="1305000"/>
            <a:ext cx="26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f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86320" y="374328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9527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33148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76640" y="37339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57560" y="417204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7560" y="45910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76640" y="50482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76640" y="55054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7EA-6C56-49EB-A57F-5AB989ADCBA8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140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Every DCOM objects must implement the </a:t>
            </a:r>
            <a:r>
              <a:rPr b="1" lang="en-GB" sz="2900" spc="-1" strike="noStrike">
                <a:solidFill>
                  <a:srgbClr val="0099cc"/>
                </a:solidFill>
                <a:latin typeface="Times New Roman"/>
              </a:rPr>
              <a:t>IUnknow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clients can use it f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the lifetime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over the interfaces the object sup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295800"/>
            <a:ext cx="2610000" cy="24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11760" y="3971880"/>
            <a:ext cx="13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134200" y="26096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6134040" y="379044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6095880" y="462888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095880" y="5372280"/>
            <a:ext cx="74304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64080" y="19144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9200" y="4067280"/>
            <a:ext cx="1886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20840" y="3228840"/>
            <a:ext cx="1905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8640" y="48290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CEF-470C-46C5-85AC-FDD25241A6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 server contains one or more object classes identified its ow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client asks for an object of a give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creates a new object by a 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class fact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pointer of the primary interface of the new object is returned to the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not an object, it is an EXE or DLL (or Java class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E41-CD63-49A4-A256-59F624F2A6C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Structure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315040" y="2552760"/>
            <a:ext cx="2971800" cy="3371760"/>
            <a:chOff x="5315040" y="2552760"/>
            <a:chExt cx="2971800" cy="3371760"/>
          </a:xfrm>
        </p:grpSpPr>
        <p:sp>
          <p:nvSpPr>
            <p:cNvPr id="335" name=""/>
            <p:cNvSpPr/>
            <p:nvPr/>
          </p:nvSpPr>
          <p:spPr>
            <a:xfrm>
              <a:off x="5315040" y="2552760"/>
              <a:ext cx="2971800" cy="337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1320" y="2838240"/>
              <a:ext cx="1942920" cy="1009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10400" y="4209840"/>
              <a:ext cx="1923840" cy="1066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82920" y="2866680"/>
              <a:ext cx="130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Obje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2760" y="4257360"/>
              <a:ext cx="13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0120" y="5362200"/>
              <a:ext cx="239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41280" y="587700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EXE or D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705720" y="1752120"/>
            <a:ext cx="0" cy="80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64120" y="15717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095720" y="318132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95720" y="358128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133880" y="474336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14360" y="294336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32440" y="4124160"/>
            <a:ext cx="249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070-74D6-432F-8DC1-106F5F86156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mplement a class factory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for each CLS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ass can support licensing (IClassFactory2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Register the classes it suppor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registry entry for every CLSID with the pathname to the EXE or DLL of the implement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nitialise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Initializ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DCOM library provides run-time services and AP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E4B-4132-46FB-8D6B-E564A358590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Verify that the library is a compatible vers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BuildVersio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Provide an unloading mechanis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o terminate the objects without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ninitialis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f there are no objects with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5E7-CEDE-40F3-8163-2DF2AB9BE6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58560" y="1220760"/>
            <a:ext cx="9542880" cy="4942080"/>
            <a:chOff x="358560" y="1220760"/>
            <a:chExt cx="9542880" cy="4942080"/>
          </a:xfrm>
        </p:grpSpPr>
        <p:grpSp>
          <p:nvGrpSpPr>
            <p:cNvPr id="355" name=""/>
            <p:cNvGrpSpPr/>
            <p:nvPr/>
          </p:nvGrpSpPr>
          <p:grpSpPr>
            <a:xfrm>
              <a:off x="430200" y="1524240"/>
              <a:ext cx="2228760" cy="1009440"/>
              <a:chOff x="430200" y="1524240"/>
              <a:chExt cx="2228760" cy="100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430200" y="152424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0200" y="200052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30200" y="3124440"/>
              <a:ext cx="2628360" cy="1009440"/>
              <a:chOff x="430200" y="3124440"/>
              <a:chExt cx="2628360" cy="100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430200" y="3124440"/>
                <a:ext cx="26283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0200" y="3600720"/>
                <a:ext cx="262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49280" y="4838760"/>
              <a:ext cx="2971440" cy="1009440"/>
              <a:chOff x="449280" y="4838760"/>
              <a:chExt cx="2971440" cy="1009440"/>
            </a:xfrm>
          </p:grpSpPr>
          <p:sp>
            <p:nvSpPr>
              <p:cNvPr id="362" name=""/>
              <p:cNvSpPr/>
              <p:nvPr/>
            </p:nvSpPr>
            <p:spPr>
              <a:xfrm>
                <a:off x="449280" y="4838760"/>
                <a:ext cx="29714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9280" y="5315040"/>
                <a:ext cx="297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163760" y="3124440"/>
              <a:ext cx="2609640" cy="1009440"/>
              <a:chOff x="4163760" y="3124440"/>
              <a:chExt cx="2609640" cy="100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4163760" y="3124440"/>
                <a:ext cx="26096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63760" y="3600720"/>
                <a:ext cx="26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964200" y="4534200"/>
              <a:ext cx="2361960" cy="1618920"/>
              <a:chOff x="6964200" y="4534200"/>
              <a:chExt cx="2361960" cy="1618920"/>
            </a:xfrm>
          </p:grpSpPr>
          <p:sp>
            <p:nvSpPr>
              <p:cNvPr id="368" name=""/>
              <p:cNvSpPr/>
              <p:nvPr/>
            </p:nvSpPr>
            <p:spPr>
              <a:xfrm>
                <a:off x="6964200" y="4534200"/>
                <a:ext cx="2361960" cy="1618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64200" y="5297760"/>
                <a:ext cx="236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964200" y="1600200"/>
              <a:ext cx="2228760" cy="1009440"/>
              <a:chOff x="6964200" y="1600200"/>
              <a:chExt cx="2228760" cy="1009440"/>
            </a:xfrm>
          </p:grpSpPr>
          <p:sp>
            <p:nvSpPr>
              <p:cNvPr id="371" name=""/>
              <p:cNvSpPr/>
              <p:nvPr/>
            </p:nvSpPr>
            <p:spPr>
              <a:xfrm>
                <a:off x="6964200" y="160020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64200" y="207648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873360" y="1533600"/>
              <a:ext cx="11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6120" y="313380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0240" y="486756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4360" y="3133800"/>
              <a:ext cx="195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ompon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22600" y="159084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Unknow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78040" y="4448160"/>
              <a:ext cx="168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Exten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nterface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 CE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5000" y="20415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all_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000" y="5356440"/>
              <a:ext cx="29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Initialize/Uninitial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11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23960" y="213696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85800" y="5337360"/>
              <a:ext cx="219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ervice_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8960" y="1752840"/>
              <a:ext cx="430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39880" y="2229120"/>
              <a:ext cx="36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78400" y="2229120"/>
              <a:ext cx="146700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7897320" y="2628720"/>
              <a:ext cx="19080" cy="192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39840" y="3543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611000" y="2552760"/>
              <a:ext cx="19080" cy="62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48440" y="4152960"/>
              <a:ext cx="1908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11160" y="4114800"/>
              <a:ext cx="1847880" cy="12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125760" y="4305600"/>
              <a:ext cx="857160" cy="10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40520" y="331632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&lt;extends&gt;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76240" y="1220760"/>
              <a:ext cx="47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sk for a reference to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1480" y="2192400"/>
              <a:ext cx="41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all a service on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35720" y="507708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06360" y="30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01680" y="313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5720" y="2733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6640" y="2448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31160" y="261144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reateIn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84360" y="358308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46760" y="468792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l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66A-E3BE-447A-8F57-18DEEE8612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ree kind of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in-process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process space of the server and client is the same (DLL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local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rver is in a separate process on the same machine (EX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remote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parate process on a remote machni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570-F7CF-4A25-ADD6-4D1E3628C33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39840" y="1123920"/>
            <a:ext cx="9563040" cy="5073120"/>
            <a:chOff x="339840" y="1123920"/>
            <a:chExt cx="9563040" cy="5073120"/>
          </a:xfrm>
        </p:grpSpPr>
        <p:sp>
          <p:nvSpPr>
            <p:cNvPr id="409" name=""/>
            <p:cNvSpPr/>
            <p:nvPr/>
          </p:nvSpPr>
          <p:spPr>
            <a:xfrm>
              <a:off x="5394600" y="3989520"/>
              <a:ext cx="4309920" cy="19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6760" y="3448080"/>
              <a:ext cx="4533840" cy="262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92600" y="2533680"/>
              <a:ext cx="1981080" cy="3600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3520" y="1123920"/>
              <a:ext cx="1962000" cy="1295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120" y="2838600"/>
              <a:ext cx="1581120" cy="1257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4840" y="3000600"/>
              <a:ext cx="110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App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044880" y="2543400"/>
              <a:ext cx="1695600" cy="1373760"/>
              <a:chOff x="3044880" y="2543400"/>
              <a:chExt cx="1695600" cy="1373760"/>
            </a:xfrm>
          </p:grpSpPr>
          <p:sp>
            <p:nvSpPr>
              <p:cNvPr id="416" name=""/>
              <p:cNvSpPr/>
              <p:nvPr/>
            </p:nvSpPr>
            <p:spPr>
              <a:xfrm>
                <a:off x="3044880" y="2629080"/>
                <a:ext cx="1695600" cy="12567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14880" y="2543400"/>
                <a:ext cx="1230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Loc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102120" y="4448160"/>
              <a:ext cx="1676520" cy="1373760"/>
              <a:chOff x="3102120" y="4448160"/>
              <a:chExt cx="1676520" cy="1373760"/>
            </a:xfrm>
          </p:grpSpPr>
          <p:sp>
            <p:nvSpPr>
              <p:cNvPr id="419" name=""/>
              <p:cNvSpPr/>
              <p:nvPr/>
            </p:nvSpPr>
            <p:spPr>
              <a:xfrm>
                <a:off x="3102120" y="4515120"/>
                <a:ext cx="1676520" cy="12762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98680" y="4448160"/>
                <a:ext cx="13435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373200" y="387036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16680" y="573732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840" y="1143000"/>
              <a:ext cx="4724280" cy="504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840" y="1362240"/>
              <a:ext cx="132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396880" y="1162080"/>
              <a:ext cx="2324520" cy="847440"/>
              <a:chOff x="2396880" y="1162080"/>
              <a:chExt cx="2324520" cy="8474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952720" y="1162080"/>
                <a:ext cx="1768680" cy="847440"/>
                <a:chOff x="2952720" y="1162080"/>
                <a:chExt cx="1768680" cy="8474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968560" y="1162080"/>
                  <a:ext cx="1638360" cy="799920"/>
                </a:xfrm>
                <a:prstGeom prst="rect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952720" y="1184040"/>
                  <a:ext cx="1768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In-proces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Obj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 flipH="1">
                <a:off x="2396880" y="13716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96880" y="1733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flipH="1">
              <a:off x="2454120" y="3029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435040" y="3676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92280" y="49341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473200" y="5505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054520" y="1581120"/>
              <a:ext cx="1904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73240" y="344808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92320" y="3714840"/>
              <a:ext cx="304920" cy="14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55680" y="1736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7701120" y="4340160"/>
              <a:ext cx="1724040" cy="847800"/>
              <a:chOff x="7701120" y="4340160"/>
              <a:chExt cx="1724040" cy="847800"/>
            </a:xfrm>
          </p:grpSpPr>
          <p:sp>
            <p:nvSpPr>
              <p:cNvPr id="440" name=""/>
              <p:cNvSpPr/>
              <p:nvPr/>
            </p:nvSpPr>
            <p:spPr>
              <a:xfrm>
                <a:off x="7716240" y="4340160"/>
                <a:ext cx="1596960" cy="8182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01120" y="4362480"/>
                <a:ext cx="1724040" cy="8254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>
              <a:off x="7159320" y="45547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59320" y="49244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29400" y="4357800"/>
              <a:ext cx="90972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02400" y="4457880"/>
              <a:ext cx="46368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34440" y="514656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38960" y="5203800"/>
              <a:ext cx="21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73120" y="3851280"/>
              <a:ext cx="317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483520" y="1241640"/>
              <a:ext cx="4419360" cy="2092320"/>
              <a:chOff x="5483520" y="1241640"/>
              <a:chExt cx="4419360" cy="209232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7292880" y="1714680"/>
                <a:ext cx="2323440" cy="847440"/>
                <a:chOff x="7292880" y="1714680"/>
                <a:chExt cx="2323440" cy="84744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7848000" y="1714680"/>
                  <a:ext cx="1768320" cy="847440"/>
                  <a:chOff x="7848000" y="1714680"/>
                  <a:chExt cx="1768320" cy="8474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7863480" y="1714680"/>
                    <a:ext cx="1638000" cy="799920"/>
                  </a:xfrm>
                  <a:prstGeom prst="rect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48000" y="1736640"/>
                    <a:ext cx="176832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Loca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Objec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" name=""/>
                <p:cNvSpPr/>
                <p:nvPr/>
              </p:nvSpPr>
              <p:spPr>
                <a:xfrm flipH="1">
                  <a:off x="7292880" y="192420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7292880" y="228636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5826240" y="1733760"/>
                <a:ext cx="933120" cy="8002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21560" y="1867320"/>
                <a:ext cx="475920" cy="1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30200" y="2537280"/>
                <a:ext cx="92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C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829280" y="25750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83520" y="1314720"/>
                <a:ext cx="4419360" cy="2019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75720" y="1241640"/>
                <a:ext cx="290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 Proc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5870160" y="19083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55680" y="4651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39000" y="348948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emote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740480" y="2095200"/>
              <a:ext cx="1085760" cy="11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778640" y="4705200"/>
              <a:ext cx="9522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98520" y="49179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10120" y="27241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L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DDC-6415-4AB2-B56A-1908A1A4165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Scenario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9960" y="1257480"/>
            <a:ext cx="19051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22960" y="13748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67200" y="125748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1257480"/>
            <a:ext cx="2228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58280" y="369576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8116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1981080"/>
            <a:ext cx="11448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535960" y="4400640"/>
            <a:ext cx="74520" cy="15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2438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31640" y="205272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1: CoGet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1400" y="2471760"/>
            <a:ext cx="29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2: CoRegister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076280" y="293364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76200" y="346716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86400" y="30243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3: CreateInstance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58040" y="39816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41120" y="35193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4: 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295280" y="4590720"/>
            <a:ext cx="7239240" cy="1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80960" y="412920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5: Obtai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25780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095360" y="584820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27160" y="53672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8: CoRevoke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9880" y="47959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7: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24717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(CLS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42080" y="38131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My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4040" y="1432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25240" y="137484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DCOM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3D7-0520-4684-A870-E193C1FB1DC6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has no persistent sta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not be distinguished from copies of its 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sible exceptions: non-functional attributes (for example license number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 be loaded into and activated in a particular system several times. The number of available copies is not meaningfu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B0D-9B33-41D0-ACB7-F1CDF8B2CC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1. The client requests a pointer to the class factor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gives the CLSID of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2. The server instantiates a class factory and register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3. The client requests an instance of this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ClassFactory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reates and instantiates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IID to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B9E-2BF4-4E0F-93C3-6A8CF9722FB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4. The factory creates an instance of the cla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t returns to the client a pointer for the requested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5. The client interacts with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6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7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Classfaxtory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8. The server is shut dow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F98-561A-40D4-A7E5-C0CD8138EC7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ponents based on Microsoft 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 objects that implement a predefined set of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may be implemented and used in any programming languag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re is a bridge tool between JavaBeans and ActiveX Contr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113-5791-4450-9BAF-E4ED8FCD411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with the predefined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9067680" cy="448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BAA-A4AD-4C25-9B71-905C7B846D0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33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87000"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922032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CB4-B4D1-46BB-B505-F8C113F61F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-based programm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emens Szyperski: Component Software. Beyond the Object-Oriented Progra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son-Wesley, 1999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1A4-6F07-4BC4-B685-AA11ADA74A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obert Orfali, Dan Harkey: Client/Server Programming with JAVA and CORBA (2nd Ed.)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ohn Wiley &amp; Sons, Inc, 199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595-C4A4-43CF-A7F3-0F2A124958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chard Grimes: Professional DCOM program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rox Press Ltd. 199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F8B-B618-4792-AFB1-E353DAEF299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versus O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it of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composi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no persistent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featur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068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instanti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a "plan" (class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ass: unit of reus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(persistent)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state and behavi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7E8-7460-4BC1-9EFD-3D5B30D5B3F1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finition of the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literature offers several different definition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e use the following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lemens Szyperski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(Component Software, p.34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"A software component is a unit of composition with contractually specified interfaces and explicit context dependencies only. A software component can be deployed independently and is subject to composition by third parties.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B6D-D3AF-47D6-A7AC-1D176DCD9B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a unit of composition with contractually specified interface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 interface is an access point for the client to the services of the compon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rovide multiple interfaces for different client nee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irect (procedural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directly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1B2-04E1-401F-B585-5C6DAD38A0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icsor Lajos</dc:creator>
  <dc:description/>
  <dc:language>en-US</dc:language>
  <cp:lastModifiedBy>Ficsor Lajos</cp:lastModifiedBy>
  <cp:lastPrinted>2000-09-06T14:26:37Z</cp:lastPrinted>
  <dcterms:modified xsi:type="dcterms:W3CDTF">2001-09-26T16:03:32Z</dcterms:modified>
  <cp:revision>1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Oktatas\Infrendsz\Infrendsz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