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354-A54E-43AF-89F8-9B10BE12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A2D-527C-4B47-AC01-9114C973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0CE-397B-43CD-A7E1-79B471D7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9B3-9DC3-4F99-A8B1-FF87B53E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367-B646-4014-A734-A6B6C5D9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8BA-EBC5-42D6-8498-64B4C9BB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34F-EC51-4DA4-B131-37E4764F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1F2-6F8A-4E83-AF37-4A177E12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F71-084C-4B42-94CF-31442C9F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B22-95F3-49C7-AD5F-4E0D59FD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C1C-3F74-4BBA-B912-9EBF6912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57D-A871-4E1C-8871-3396B3F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52B0-33A0-4750-9A07-3051B717D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agy rendelkezésre állású számítógép architektúrák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apcsolat a külvilágg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38080" y="1981080"/>
          <a:ext cx="75661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5661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Hibamentes működé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39880" y="2128680"/>
          <a:ext cx="756576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128680"/>
                    <a:ext cx="756576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Csomóponthi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838080" y="2133720"/>
          <a:ext cx="7566120" cy="38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566120" cy="38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Csomóponthiba hatása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2133720"/>
          <a:ext cx="7566120" cy="38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566120" cy="38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hiba „elrejtése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38080" y="2133720"/>
          <a:ext cx="7566120" cy="38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566120" cy="38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oftver rétegződé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7920" y="1498680"/>
          <a:ext cx="746136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498680"/>
                    <a:ext cx="746136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Példa a rétegződés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07920" y="1498680"/>
          <a:ext cx="746136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498680"/>
                    <a:ext cx="746136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Unixware Reliant H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rivát hálózat kezel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kommunikáci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ezérlőinformáció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omponensek monitorozá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inkroniz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lkalmazások kezel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rogrammódosítás nem k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llesztés a rendszerhez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őforrás-függőségi f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5791320"/>
            <a:ext cx="304560" cy="228600"/>
          </a:xfrm>
          <a:prstGeom prst="rightArrow">
            <a:avLst>
              <a:gd name="adj1" fmla="val 50000"/>
              <a:gd name="adj2" fmla="val 3333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13720" y="128520"/>
          <a:ext cx="221616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3720" y="128520"/>
                    <a:ext cx="221616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őforrás-függőségi f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41480" y="1822320"/>
          <a:ext cx="7346880" cy="47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1822320"/>
                    <a:ext cx="734688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Oracle Paralell Ser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981080"/>
          <a:ext cx="75661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5661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813720" y="128520"/>
          <a:ext cx="2216160" cy="15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13720" y="128520"/>
                    <a:ext cx="221616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olgáltatásminősé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42670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ndelkezésre állás: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növel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peciális hardverre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drá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ereskedelmi elemekbő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imális többletkölt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5791320"/>
            <a:ext cx="304560" cy="228600"/>
          </a:xfrm>
          <a:prstGeom prst="rightArrow">
            <a:avLst>
              <a:gd name="adj1" fmla="val 50000"/>
              <a:gd name="adj2" fmla="val 3333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248520"/>
            <a:ext cx="304560" cy="228600"/>
          </a:xfrm>
          <a:prstGeom prst="rightArrow">
            <a:avLst>
              <a:gd name="adj1" fmla="val 50000"/>
              <a:gd name="adj2" fmla="val 3333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7760" y="1460520"/>
          <a:ext cx="6559560" cy="25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460520"/>
                    <a:ext cx="6559560" cy="25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09880" y="4419720"/>
                <a:ext cx="46609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zolgáltatá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ó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ó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ossz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Párhuzamosítás problémá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9900"/>
                </a:solidFill>
                <a:latin typeface="Arial"/>
              </a:rPr>
              <a:t>Adatkonzisztenci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biztosít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konkurren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írás és olvas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zárak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kezel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gyorsítótá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működ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ersenyhelyze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lold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kerülés, minimalizál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lkalmazások párhuzamosíthatósá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7920" y="2203560"/>
          <a:ext cx="7473960" cy="42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2203560"/>
                    <a:ext cx="747396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felépített rendsz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8880" y="1936800"/>
          <a:ext cx="81597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936800"/>
                    <a:ext cx="81597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37160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ámítógép klasz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ól használhat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agy rendelkezésre állás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öltségkímél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namikusan, egyszerűen bővíthet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0" y="4282920"/>
          <a:ext cx="419112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282920"/>
                    <a:ext cx="41911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öltség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1981080"/>
          <a:ext cx="8640720" cy="44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640720" cy="44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laszter koncepci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8769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Klasz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autonóm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szerverek csoport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gyetle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feldolgozó egységként jelenik m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828800"/>
            <a:ext cx="31244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69920" indent="-169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HA biztosítá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öbb számítógé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szkmigr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rivát hálóz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zös disz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tkonfigurálhatósá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81280" y="1752480"/>
          <a:ext cx="535968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752480"/>
                    <a:ext cx="535968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övetelmény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0020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ineáris </a:t>
            </a:r>
            <a:r>
              <a:rPr b="0" lang="hu-HU" sz="3200" spc="-1" strike="noStrike">
                <a:solidFill>
                  <a:srgbClr val="ff9900"/>
                </a:solidFill>
                <a:latin typeface="Arial"/>
              </a:rPr>
              <a:t>skálázhatósá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teljesítmé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sávszéles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 legyen a rendszernek kritikus pont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utomatik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hibadetektál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hibakorrekci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újrakonfigurál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újraindí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2362320"/>
            <a:ext cx="426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ndelkezésre áll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Hardver felépíté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2438280"/>
          <a:ext cx="756612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38280"/>
                    <a:ext cx="756612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86000" y="1447920"/>
            <a:ext cx="4495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(egyszerűsített mode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utonóm szerver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38080" y="1905120"/>
          <a:ext cx="7566120" cy="42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56612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özös diszk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38080" y="1371600"/>
          <a:ext cx="75661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5661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429000" y="54864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rheléselosz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szkmigr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5410080"/>
            <a:ext cx="1905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Szerep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Privát hálóz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22240" y="1447920"/>
          <a:ext cx="7566120" cy="52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447920"/>
                    <a:ext cx="756612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3T08:00:52Z</dcterms:created>
  <dc:creator>Zoli</dc:creator>
  <dc:description/>
  <dc:language>en-US</dc:language>
  <cp:lastModifiedBy>Pataricza András</cp:lastModifiedBy>
  <cp:lastPrinted>1998-11-03T17:57:18Z</cp:lastPrinted>
  <dcterms:modified xsi:type="dcterms:W3CDTF">1999-10-15T08:57:52Z</dcterms:modified>
  <cp:revision>31</cp:revision>
  <dc:subject/>
  <dc:title>Nincs diacím</dc:title>
</cp:coreProperties>
</file>