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340240" y="6423120"/>
            <a:ext cx="312264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0">
              <a:lnSpc>
                <a:spcPct val="100000"/>
              </a:lnSpc>
            </a:pPr>
            <a:r>
              <a:rPr b="0" lang="en-US" sz="1200" spc="-1" strike="noStrike">
                <a:solidFill>
                  <a:srgbClr val="8cf4ea"/>
                </a:solidFill>
                <a:latin typeface="Arial"/>
                <a:ea typeface="Arial"/>
              </a:rPr>
              <a:t>TEMPUS SJEP No. 08333-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865080" y="6408720"/>
            <a:ext cx="11160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8cf4ea"/>
                </a:solidFill>
                <a:latin typeface="Arial"/>
                <a:ea typeface="Arial"/>
              </a:rPr>
              <a:t>Máray Tamá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93640" y="479520"/>
            <a:ext cx="8004240" cy="5875200"/>
          </a:xfrm>
          <a:prstGeom prst="roundRect">
            <a:avLst/>
          </a:prstGeom>
          <a:noFill/>
          <a:ln w="12600">
            <a:solidFill>
              <a:srgbClr val="fcfeb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bject Oriented Parallel 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99072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EMPUS SJEP No. 08333-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ctivity No.1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DR. MÁRAY TAMÁ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echnical University of Budap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 and parall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ncurrency is a natural consequence of the concept of 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bject oriented philosophy fits especially well to parallel implem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t is obvious that the different objects can be implemented by different, parallel executed segments although other type of models have also bee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teraction and communication interfaces of the objects are well defined and control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oncurrency and Object Ori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imilarity between the basic constructs of object orientation and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everal analogies exist between objects and processes (classes and process types), e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local variable sp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ersistent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ncapsulated behav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restrictions on how modules can exchange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ommunication mechanism based on some form of message pas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PP language design criter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990720" y="15238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ncapsulation, data abstraction and inheri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inimality of mechanism (smallest possible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ull use of object oriented techniques (including inheritan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enabling full use of available HW paralle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upport for many forms of 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: shared memory, multitasking, distributed process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upport for reuse of non-concurrent soft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romote OO softwa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reating OOPP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990720" y="20574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ree distinct appro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1. Design a new concurrent O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: Hybrid, POOL, 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2. Extend an existing O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Inheritance from special classes (Eiffel//, Presto, pC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pecial keywords, modifiers or preprocessing (uC++, CC++, CEiffe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xtension to the syntax and semantics (ACT++, Actal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3. Design a library. Use an existing OO language and provide concurrency abstractions through external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: ABC++, Eiffel with Class Library, 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Fundamental problems - Anomal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ne of the most important benefit of OO is code reuse, for which inheritance is the basic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ncurrency does not blend well with inherita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ynchronization code cannot be inherited eas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heritence anoma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tate partitioning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history-only sensitive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tate modification anom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 parallel programming mod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rthogonal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oncurrent execution is independent of objects. Traditional synchronization constructs must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Homogeneou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all objects are considered to be active entities that have control over concurrent invoc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Heterogeneous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both active and passive objects ex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rocess structure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ctor modell / CSP (Communicating Sequential 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activ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methods are scheduled for execution when messages are accep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plitting the program according to the thread of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a process is associated with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only that process is allowed to access the variables of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xplici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PP models -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SP lik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23880" y="2286000"/>
            <a:ext cx="1523880" cy="838080"/>
          </a:xfrm>
          <a:prstGeom prst="rect">
            <a:avLst/>
          </a:prstGeom>
          <a:noFill/>
          <a:ln w="12600">
            <a:solidFill>
              <a:srgbClr val="fcfeb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86400" y="2286000"/>
            <a:ext cx="1523880" cy="838080"/>
          </a:xfrm>
          <a:prstGeom prst="rect">
            <a:avLst/>
          </a:prstGeom>
          <a:noFill/>
          <a:ln w="12600">
            <a:solidFill>
              <a:srgbClr val="fcfeb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66680" y="1828800"/>
            <a:ext cx="2514600" cy="4114800"/>
          </a:xfrm>
          <a:prstGeom prst="roundRect">
            <a:avLst/>
          </a:prstGeom>
          <a:noFill/>
          <a:ln w="38160">
            <a:solidFill>
              <a:srgbClr val="fcfeb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029200" y="1828800"/>
            <a:ext cx="2514600" cy="4114800"/>
          </a:xfrm>
          <a:prstGeom prst="roundRect">
            <a:avLst/>
          </a:prstGeom>
          <a:noFill/>
          <a:ln w="38160">
            <a:solidFill>
              <a:srgbClr val="fcfeb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1660680" y="24843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VA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622840" y="24843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VA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3352680"/>
            <a:ext cx="0" cy="609840"/>
          </a:xfrm>
          <a:prstGeom prst="line">
            <a:avLst/>
          </a:prstGeom>
          <a:ln w="7632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68520" y="401652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94080" y="460224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662200" y="4618080"/>
            <a:ext cx="0" cy="98280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752560" y="327960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05000" y="2995560"/>
            <a:ext cx="320760" cy="76536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709720" y="3576600"/>
            <a:ext cx="820800" cy="64152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685960" y="4172040"/>
            <a:ext cx="857520" cy="30960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39880" y="4033800"/>
            <a:ext cx="0" cy="52704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76600" y="3576600"/>
            <a:ext cx="1428840" cy="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611520" y="4160880"/>
            <a:ext cx="1384200" cy="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791320" y="3379680"/>
            <a:ext cx="0" cy="609840"/>
          </a:xfrm>
          <a:prstGeom prst="line">
            <a:avLst/>
          </a:prstGeom>
          <a:ln w="7632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14920" y="4021200"/>
            <a:ext cx="38124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99240" y="4700520"/>
            <a:ext cx="0" cy="98280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07000" y="467352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3589200"/>
            <a:ext cx="595440" cy="41148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52960" y="4148280"/>
            <a:ext cx="547920" cy="49356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475320" y="3749760"/>
            <a:ext cx="38124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513480" y="490536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62880" y="3760920"/>
            <a:ext cx="0" cy="115416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6033960" y="3747960"/>
            <a:ext cx="424080" cy="25272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 flipV="1">
            <a:off x="6046920" y="4662360"/>
            <a:ext cx="457200" cy="21924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840280" y="330372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92920" y="350820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2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756480" y="2754360"/>
            <a:ext cx="605160" cy="1430640"/>
          </a:xfrm>
          <a:custGeom>
            <a:avLst/>
            <a:gdLst/>
            <a:ahLst/>
            <a:rect l="0" t="0" r="r" b="b"/>
            <a:pathLst>
              <a:path fill="none" w="1681" h="3974">
                <a:moveTo>
                  <a:pt x="0" y="3974"/>
                </a:moveTo>
                <a:lnTo>
                  <a:pt x="1681" y="2545"/>
                </a:lnTo>
                <a:lnTo>
                  <a:pt x="1681" y="793"/>
                </a:lnTo>
                <a:lnTo>
                  <a:pt x="251" y="0"/>
                </a:lnTo>
                <a:lnTo>
                  <a:pt x="251" y="0"/>
                </a:lnTo>
              </a:path>
            </a:pathLst>
          </a:custGeom>
          <a:ln w="12600">
            <a:solidFill>
              <a:srgbClr val="fcfeb9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rocess structure of ob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ONADS model / DP (Distributed Process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assive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rocess migration between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implicit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everal processes can access the variable space of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ynchronization (mutual exclusion) mechanism is needed within the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ommunication is generally implemented by RP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PP models -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DP like mod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523880" y="2286000"/>
            <a:ext cx="1523880" cy="838080"/>
          </a:xfrm>
          <a:prstGeom prst="rect">
            <a:avLst/>
          </a:prstGeom>
          <a:noFill/>
          <a:ln w="12600">
            <a:solidFill>
              <a:srgbClr val="fcfeb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2286000"/>
            <a:ext cx="1523880" cy="838080"/>
          </a:xfrm>
          <a:prstGeom prst="rect">
            <a:avLst/>
          </a:prstGeom>
          <a:noFill/>
          <a:ln w="12600">
            <a:solidFill>
              <a:srgbClr val="fcfeb9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1828800"/>
            <a:ext cx="2514600" cy="4114800"/>
          </a:xfrm>
          <a:prstGeom prst="roundRect">
            <a:avLst/>
          </a:prstGeom>
          <a:noFill/>
          <a:ln w="38160">
            <a:solidFill>
              <a:srgbClr val="fcfeb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828800"/>
            <a:ext cx="2514600" cy="4114800"/>
          </a:xfrm>
          <a:prstGeom prst="roundRect">
            <a:avLst/>
          </a:prstGeom>
          <a:noFill/>
          <a:ln w="38160">
            <a:solidFill>
              <a:srgbClr val="fcfeb9"/>
            </a:solidFill>
            <a:round/>
          </a:ln>
        </p:spPr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660680" y="24843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VA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622840" y="2484360"/>
            <a:ext cx="62388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VAR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666880" y="3352680"/>
            <a:ext cx="0" cy="609840"/>
          </a:xfrm>
          <a:prstGeom prst="line">
            <a:avLst/>
          </a:prstGeom>
          <a:ln w="7632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68520" y="401652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494080" y="4602240"/>
            <a:ext cx="38088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62200" y="4618080"/>
            <a:ext cx="0" cy="98280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747800" y="32702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05000" y="2995560"/>
            <a:ext cx="320760" cy="76536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709720" y="3576600"/>
            <a:ext cx="820800" cy="64152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576600" y="3576600"/>
            <a:ext cx="1428840" cy="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614920" y="4021200"/>
            <a:ext cx="38124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27520" y="4846680"/>
            <a:ext cx="381240" cy="0"/>
          </a:xfrm>
          <a:prstGeom prst="line">
            <a:avLst/>
          </a:prstGeom>
          <a:ln w="12600">
            <a:solidFill>
              <a:srgbClr val="fcfeb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029200" y="3589200"/>
            <a:ext cx="595440" cy="411480"/>
          </a:xfrm>
          <a:prstGeom prst="line">
            <a:avLst/>
          </a:prstGeom>
          <a:ln w="1260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075280" y="3646440"/>
            <a:ext cx="560520" cy="1143000"/>
          </a:xfrm>
          <a:prstGeom prst="line">
            <a:avLst/>
          </a:prstGeom>
          <a:ln w="12600">
            <a:solidFill>
              <a:srgbClr val="fcfeb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6649920" y="3336840"/>
            <a:ext cx="1800" cy="234468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5748480" y="3728880"/>
            <a:ext cx="4129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2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673680" y="326700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56480" y="2754360"/>
            <a:ext cx="605160" cy="1430640"/>
          </a:xfrm>
          <a:custGeom>
            <a:avLst/>
            <a:gdLst/>
            <a:ahLst/>
            <a:rect l="0" t="0" r="r" b="b"/>
            <a:pathLst>
              <a:path fill="none" w="1681" h="3974">
                <a:moveTo>
                  <a:pt x="0" y="3974"/>
                </a:moveTo>
                <a:lnTo>
                  <a:pt x="1681" y="2545"/>
                </a:lnTo>
                <a:lnTo>
                  <a:pt x="1681" y="793"/>
                </a:lnTo>
                <a:lnTo>
                  <a:pt x="251" y="0"/>
                </a:lnTo>
                <a:lnTo>
                  <a:pt x="251" y="0"/>
                </a:lnTo>
              </a:path>
            </a:pathLst>
          </a:custGeom>
          <a:ln w="12600">
            <a:solidFill>
              <a:srgbClr val="fcfeb9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38440" y="3371760"/>
            <a:ext cx="0" cy="219564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684520" y="3270240"/>
            <a:ext cx="3697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fcfeb9"/>
                </a:solidFill>
                <a:latin typeface="Arial"/>
                <a:ea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81240" y="2948040"/>
            <a:ext cx="376560" cy="1452960"/>
          </a:xfrm>
          <a:custGeom>
            <a:avLst/>
            <a:gdLst/>
            <a:ahLst/>
            <a:rect l="0" t="0" r="r" b="b"/>
            <a:pathLst>
              <a:path fill="none" w="1046" h="4036">
                <a:moveTo>
                  <a:pt x="979" y="4036"/>
                </a:moveTo>
                <a:lnTo>
                  <a:pt x="0" y="2483"/>
                </a:lnTo>
                <a:lnTo>
                  <a:pt x="0" y="824"/>
                </a:lnTo>
                <a:lnTo>
                  <a:pt x="1046" y="0"/>
                </a:lnTo>
              </a:path>
            </a:pathLst>
          </a:custGeom>
          <a:ln w="12600">
            <a:solidFill>
              <a:srgbClr val="fcfeb9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796000" y="4033800"/>
            <a:ext cx="0" cy="781200"/>
          </a:xfrm>
          <a:prstGeom prst="line">
            <a:avLst/>
          </a:prstGeom>
          <a:ln w="76320">
            <a:solidFill>
              <a:srgbClr val="fcfeb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86360" y="3005280"/>
            <a:ext cx="389160" cy="1351440"/>
          </a:xfrm>
          <a:custGeom>
            <a:avLst/>
            <a:gdLst/>
            <a:ahLst/>
            <a:rect l="0" t="0" r="r" b="b"/>
            <a:pathLst>
              <a:path fill="none" w="1081" h="3754">
                <a:moveTo>
                  <a:pt x="0" y="3754"/>
                </a:moveTo>
                <a:lnTo>
                  <a:pt x="1081" y="2642"/>
                </a:lnTo>
                <a:lnTo>
                  <a:pt x="1081" y="0"/>
                </a:lnTo>
              </a:path>
            </a:pathLst>
          </a:custGeom>
          <a:ln w="12600">
            <a:solidFill>
              <a:srgbClr val="fcfeb9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arallel and Concurrent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otentially parallel execution of parts of a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terleave the execution of components of a program on a single processor (quasi parallelism) or distribute it among several processors (real parallel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resent eff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004760" y="1662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re are many research teams all over the world whose target is designing new OOPP langu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operation exists between some of the research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 Europa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 high number of emerging OOPP languages is really frighten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C++, CC++, Mentat, MPC++, UC++, EC++, Charm++, ICC++, HPC++, ABC++, COOL, MC++, C**, Amelia, ORCA, para++, Emerald, Dowl, Amber, javaPVM, CEiffel, Eiffel//, Presto, SR, ABCL, POOL, Voyager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urely, most of them will not surv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OPP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62000" y="1552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 great variety of OOPP language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ost of the OOPP languages are derivated from C++, or are extensions to C++    :-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y cover the different parallel HW architectures and different parallel programming paradig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ome of them tries to fit to the existing standards (like MPI, PVM) some of them do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ome of them try to provide portability of applications and support different HW and SW environments, some of them are very spe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roblems with 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985680" y="1459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ain problem is inefficiency, caused by mismatch between services that operating systems provide and those that languages of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fine grained language model &lt;-&gt; coarse grained system model (distributed address space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terprocess communication mechanisms are not designed for fine grained object mod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: RPC does not translate well into distributed object systems (it is based on client-server mechanism, target must be located, etc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bject distribution, object mapping, efficient load bal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ase stud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C++ (Compositional C++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one of the most widely used OOPP 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derived from C+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one of the newest general purpose OO language which allows concurrent programming, t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C++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(Compositional C++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altech University, U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ask parallel extension to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mplements six basic abstra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rocessor object 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is a mechanism for controlling loca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global 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ointer, for linking together processo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read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 for specifying parallel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ync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 variable for synchronizing thread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atomic 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function for controling the interleaving of threads in processo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he </a:t>
            </a:r>
            <a:r>
              <a:rPr b="1" i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transfer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 functions, for allowing data structures to be transferred between processo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C++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ntroduces atomic new keywor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ar - for parallel bloc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pawn - for spawning ta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arfor - parallel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ync - synchronization of vari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global - global pointers to far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atomic - mutual exclusion within an 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se keywords are used to compose concurrent programs on distributed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CC++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 abstraction level of this language is not too high --&gt; it is powerful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mpiler is available for most of the UNIX works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Jav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New, high level, general purpose OO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rchitecture independent -&gt; portable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Java applications run on the Java Virtual Mach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t is more simple and the OO concept is more clear than in C+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t naturally supports network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Java allows writing parallel/concurrent applications - with using the “Synchronization”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Java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Java implements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re are additional tools for supporting Java parallel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JavaPVM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	</a:t>
            </a: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- PVM interface for Java pro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Voyager - agent-enhanced distributed program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 Java “Synchronization” library supports all the traditional synchronization and communication mechanis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emaphore, monitor, randezvous, message passing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arallel and Concurrent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023840" y="185436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concurrent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ystem programming for single or multiprocessor machines (both shared or distributed memory architecture) - eg. operating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oncurrent, independent, asynchronous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rallel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peed up the execution of algorythms which require high computational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ain proble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decomposition of the problem, creating parallel executable algorythms (discovering data and functional parallelis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ynchronization and communication of processes, mutual exclusion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arallel and Concurrent Programm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We have a lot of high level languages and tools for programming serial machines, howev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arallel machines differ from serial machines in many w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re are different parallel HW archite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 shared memory computers, distributed memory computers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re are different parallel programming paradig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 data parallelism, task parallelism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arallel and Concurrent Programming Langu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914400" y="19051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General, high level, high power, effective, parallel languages are still missing, especially those, which could integrate the different con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At the moment, it is difficult to write </a:t>
            </a:r>
            <a:r>
              <a:rPr b="1" i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portable</a:t>
            </a: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 parallel programs because of the lack of suitable languages and t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bject Oriented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oday it is a very fashionable programming (and SW designing!) paradig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High number of languages, tools and implementations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 best known and probably mostly used OO language is C++, however many others have been develop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eg. Simula, Smalltalk, Eiffel, Enfin, Java, Python, 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O technology is suitable for building large software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bject Oriented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Main goals are achieving high level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data abstr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data encaps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software modula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ode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Supporting modern software engineering and design meth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bject Oriented Paradig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O development is based on the following main feat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classes and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polymorphi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Object based 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using objects without inheri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object based &lt;-&gt; object ori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63d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Object orientation and</a:t>
            </a:r>
            <a:br>
              <a:rPr sz="3600"/>
            </a:br>
            <a:r>
              <a:rPr b="1" lang="en-US" sz="3600" spc="-1" strike="noStrike">
                <a:solidFill>
                  <a:srgbClr val="fcfeb9"/>
                </a:solidFill>
                <a:latin typeface="Arial"/>
                <a:ea typeface="Arial"/>
              </a:rPr>
              <a:t>parallelis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It is obvious that new tools to be developed in order to satisfy the PP requirements, will include the OO paradig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Large and complicated systems which are built on OO philosophy often need high computation power --&gt; parallel 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(also, take into consideration the effectiveness(less) of known OO language implementations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cfeb9"/>
                </a:solidFill>
                <a:latin typeface="Arial"/>
                <a:ea typeface="Arial"/>
              </a:rPr>
              <a:t>The object philosophy and the parallel execution complement each other in very natural 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fcfeb9"/>
                </a:solidFill>
                <a:latin typeface="Arial"/>
                <a:ea typeface="Arial"/>
              </a:rPr>
              <a:t>if objects are individual, why could not their execution be individual? ie. paralle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TM</dc:creator>
  <dc:description/>
  <dc:language>en-US</dc:language>
  <cp:lastModifiedBy>caos</cp:lastModifiedBy>
  <cp:revision>0</cp:revision>
  <dc:subject/>
  <dc:title>Object Oriented Parallel Programming Languages</dc:title>
</cp:coreProperties>
</file>